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B6B006-DBA3-4380-9534-E770024489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620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66320" y="4090320"/>
            <a:ext cx="7620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08641D-FA78-43B8-8FFE-3C214FF3F57E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37184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971240" y="1980720"/>
            <a:ext cx="37184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47E09A5-7534-4D17-8D5B-708CFFFED944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E9DD526-CD98-48F7-9FE7-FB8B704FCEF0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A98DB87-F7D4-4108-91D2-1DDC8451E490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971240" y="1980720"/>
            <a:ext cx="37184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1066320" y="40903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092C8A9-D4BC-47EF-AD13-EC27332A53DA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37184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971240" y="19807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971240" y="40903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D07EDA1-2658-484B-96CE-72428AA97831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971240" y="19807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1066320" y="4090320"/>
            <a:ext cx="7620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38D325B-687D-40A6-B86F-127E1D4C28CA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620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1066320" y="4090320"/>
            <a:ext cx="7620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36D2994-5E3E-4DDF-9430-0C8672274A83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971240" y="19807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1066320" y="40903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971240" y="40903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E2B5512-BF3E-4020-B273-60D13CCD9EA2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2453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3642840" y="1980720"/>
            <a:ext cx="2453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6219360" y="1980720"/>
            <a:ext cx="2453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1066320" y="4090320"/>
            <a:ext cx="2453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9" name="PlaceHolder 6"/>
          <p:cNvSpPr>
            <a:spLocks noGrp="1"/>
          </p:cNvSpPr>
          <p:nvPr>
            <p:ph/>
          </p:nvPr>
        </p:nvSpPr>
        <p:spPr>
          <a:xfrm>
            <a:off x="3642840" y="4090320"/>
            <a:ext cx="2453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0" name="PlaceHolder 7"/>
          <p:cNvSpPr>
            <a:spLocks noGrp="1"/>
          </p:cNvSpPr>
          <p:nvPr>
            <p:ph/>
          </p:nvPr>
        </p:nvSpPr>
        <p:spPr>
          <a:xfrm>
            <a:off x="6219360" y="4090320"/>
            <a:ext cx="2453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9FBEAD6-F59D-4C4E-BCF5-CFAC2E1A070D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9706B31-AA6D-43B7-A83A-108040972D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71240" y="19807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66320" y="40903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71240" y="40903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6FE5CB-27F7-459F-B175-C00311DEDA18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subTitle"/>
          </p:nvPr>
        </p:nvSpPr>
        <p:spPr>
          <a:xfrm>
            <a:off x="1066320" y="1980720"/>
            <a:ext cx="762012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761CD76-8C9E-4509-AABD-365DA1E6E42B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6201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223FCF8-D45F-4D5C-97AB-FB6B0853B632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37184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971240" y="1980720"/>
            <a:ext cx="37184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568ECB1-5231-415D-AD8E-D2C0652856B0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15E61C8-3BD6-4BF9-B078-213C18070B68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6D91FFD-DCA5-4C46-89D0-37ADDD667910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971240" y="1980720"/>
            <a:ext cx="37184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1066320" y="40903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48956BF-BF27-4DDE-88F5-357FFEC23EEB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37184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971240" y="19807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971240" y="40903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581470E-53A2-4EFD-A5C8-596F637D76FC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971240" y="19807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1066320" y="4090320"/>
            <a:ext cx="7620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0BBC4C1-4AC2-480A-BF56-5A4B685243A2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620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1066320" y="4090320"/>
            <a:ext cx="7620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4C257C6-DFC0-491B-B4FD-35764FA411B5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971240" y="19807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1066320" y="40903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4971240" y="40903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33F78C4-D0B3-4185-A923-48E45939EF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2453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2840" y="1980720"/>
            <a:ext cx="2453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19360" y="1980720"/>
            <a:ext cx="2453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66320" y="4090320"/>
            <a:ext cx="2453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2840" y="4090320"/>
            <a:ext cx="2453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19360" y="4090320"/>
            <a:ext cx="2453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EF183A-025D-4D12-B7B8-4152EC8D37FF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2453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3642840" y="1980720"/>
            <a:ext cx="2453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6219360" y="1980720"/>
            <a:ext cx="2453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1066320" y="4090320"/>
            <a:ext cx="2453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9" name="PlaceHolder 6"/>
          <p:cNvSpPr>
            <a:spLocks noGrp="1"/>
          </p:cNvSpPr>
          <p:nvPr>
            <p:ph/>
          </p:nvPr>
        </p:nvSpPr>
        <p:spPr>
          <a:xfrm>
            <a:off x="3642840" y="4090320"/>
            <a:ext cx="2453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0" name="PlaceHolder 7"/>
          <p:cNvSpPr>
            <a:spLocks noGrp="1"/>
          </p:cNvSpPr>
          <p:nvPr>
            <p:ph/>
          </p:nvPr>
        </p:nvSpPr>
        <p:spPr>
          <a:xfrm>
            <a:off x="6219360" y="4090320"/>
            <a:ext cx="2453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3BEF4C0-DA69-4486-82C9-285F8BEBE9F6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2607D1-3207-44A1-A5B9-171F2444E3D9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subTitle"/>
          </p:nvPr>
        </p:nvSpPr>
        <p:spPr>
          <a:xfrm>
            <a:off x="1066320" y="1980720"/>
            <a:ext cx="762012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63EBD3-D3D5-488B-90E7-6C603CF7DAA9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6201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B014ED-748A-41F3-B948-9DF5996AC572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37184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971240" y="1980720"/>
            <a:ext cx="37184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9F4672-7342-46A2-9ED3-3F5985D31D16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87B381-9B43-4A71-BC60-DFD6B8939943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90AA64-AFD3-4F71-8D53-CE91EA41F275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971240" y="1980720"/>
            <a:ext cx="37184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1066320" y="40903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BECF8E-6BF0-4257-96EB-CE20425549EA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37184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971240" y="19807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971240" y="40903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E8A869-8E3B-4088-8A0A-1B17FA4A2DBE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971240" y="19807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1066320" y="4090320"/>
            <a:ext cx="7620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494715-6E51-4BFC-BD1D-C8B3AF3B71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620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1066320" y="4090320"/>
            <a:ext cx="7620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400972-5755-4B3F-933E-A5983AE4C6AC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971240" y="19807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1066320" y="40903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/>
          </p:nvPr>
        </p:nvSpPr>
        <p:spPr>
          <a:xfrm>
            <a:off x="4971240" y="40903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CD18C4-81B6-48D9-9A76-9967296FA08D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2453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3642840" y="1980720"/>
            <a:ext cx="2453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6219360" y="1980720"/>
            <a:ext cx="2453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1066320" y="4090320"/>
            <a:ext cx="2453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39" name="PlaceHolder 6"/>
          <p:cNvSpPr>
            <a:spLocks noGrp="1"/>
          </p:cNvSpPr>
          <p:nvPr>
            <p:ph/>
          </p:nvPr>
        </p:nvSpPr>
        <p:spPr>
          <a:xfrm>
            <a:off x="3642840" y="4090320"/>
            <a:ext cx="2453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40" name="PlaceHolder 7"/>
          <p:cNvSpPr>
            <a:spLocks noGrp="1"/>
          </p:cNvSpPr>
          <p:nvPr>
            <p:ph/>
          </p:nvPr>
        </p:nvSpPr>
        <p:spPr>
          <a:xfrm>
            <a:off x="6219360" y="4090320"/>
            <a:ext cx="2453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63BE87-E336-4E85-9F2A-CDAF9325BA8D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D270F30-D9A5-4CBB-BAED-0E48F72F2D37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subTitle"/>
          </p:nvPr>
        </p:nvSpPr>
        <p:spPr>
          <a:xfrm>
            <a:off x="1066320" y="1980720"/>
            <a:ext cx="762012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9AF7702-A86E-4069-9B91-B909DA4755BB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6201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F3232E2-A9C3-4C7F-BEA3-353889D4B81B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37184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971240" y="1980720"/>
            <a:ext cx="37184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F3E62F9-4220-40AF-95EB-B73D14EA0716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00A6184-F1B6-4459-AC76-2A58F39624D4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8F22EF9-0F00-4DC9-9BE8-C3C7D910ADC7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971240" y="1980720"/>
            <a:ext cx="37184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1066320" y="40903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EE3E4CD-DE5E-400B-A8E7-F449FA1169A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066320" y="1980720"/>
            <a:ext cx="762012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37184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971240" y="19807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971240" y="40903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FD29F8E-4934-4DA2-96FD-0BF4EF848CA8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971240" y="19807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1066320" y="4090320"/>
            <a:ext cx="7620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8995EA2-425B-437F-835C-B26B7B139975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620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1066320" y="4090320"/>
            <a:ext cx="7620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72E0672-1260-43E0-BE25-7BCEC21510F3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971240" y="19807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1066320" y="40903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4971240" y="40903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558D8C2-C6B4-4026-B363-E5A7BD9264EF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2453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3642840" y="1980720"/>
            <a:ext cx="2453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219360" y="1980720"/>
            <a:ext cx="2453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1066320" y="4090320"/>
            <a:ext cx="2453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9" name="PlaceHolder 6"/>
          <p:cNvSpPr>
            <a:spLocks noGrp="1"/>
          </p:cNvSpPr>
          <p:nvPr>
            <p:ph/>
          </p:nvPr>
        </p:nvSpPr>
        <p:spPr>
          <a:xfrm>
            <a:off x="3642840" y="4090320"/>
            <a:ext cx="2453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80" name="PlaceHolder 7"/>
          <p:cNvSpPr>
            <a:spLocks noGrp="1"/>
          </p:cNvSpPr>
          <p:nvPr>
            <p:ph/>
          </p:nvPr>
        </p:nvSpPr>
        <p:spPr>
          <a:xfrm>
            <a:off x="6219360" y="4090320"/>
            <a:ext cx="2453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00A2225-49F5-4343-ADFF-E6D1AEE25B8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6201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37184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71240" y="1980720"/>
            <a:ext cx="37184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71240" y="1980720"/>
            <a:ext cx="37184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66320" y="40903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66320" y="1980720"/>
            <a:ext cx="762012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EB84F9-15F2-476F-99EB-E351C64FC6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37184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9807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971240" y="40903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71240" y="19807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066320" y="4090320"/>
            <a:ext cx="7620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620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066320" y="4090320"/>
            <a:ext cx="7620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71240" y="19807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66320" y="40903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971240" y="40903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2453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642840" y="1980720"/>
            <a:ext cx="2453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19360" y="1980720"/>
            <a:ext cx="2453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066320" y="4090320"/>
            <a:ext cx="2453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642840" y="4090320"/>
            <a:ext cx="2453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19360" y="4090320"/>
            <a:ext cx="2453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7E2A30-CCAC-480C-AE6F-290EF7C79CD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066320" y="1980720"/>
            <a:ext cx="762012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6604A4-A1BE-4A46-B2F6-090FF983392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6201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9F1B18-C862-44DB-8A2A-706F8366F3A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37184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971240" y="1980720"/>
            <a:ext cx="37184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9199FF-0A5E-476B-87F9-F15DEA61793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8C7397-FDEB-416B-B9C4-6902C91E98E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6201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A3BC53-549F-4C74-8A69-D12AAC48ADA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E4614A-8EC9-4A94-9205-333E8A112C1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971240" y="1980720"/>
            <a:ext cx="37184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066320" y="40903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650879-6B96-477C-A653-F30483AE2CF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37184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971240" y="19807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971240" y="40903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71EA07-6171-41C7-8A8F-AC2D2958E20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71240" y="19807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066320" y="4090320"/>
            <a:ext cx="7620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E29B79-4177-4709-98BD-9F81E254C7B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620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1066320" y="4090320"/>
            <a:ext cx="7620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79E4CD-F084-4433-AA1F-A34330176F3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971240" y="19807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066320" y="40903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971240" y="40903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295E66-19E5-40B1-9B05-00E2489C0E4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2453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642840" y="1980720"/>
            <a:ext cx="2453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219360" y="1980720"/>
            <a:ext cx="2453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1066320" y="4090320"/>
            <a:ext cx="2453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642840" y="4090320"/>
            <a:ext cx="2453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219360" y="4090320"/>
            <a:ext cx="2453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1443EC-84D6-459F-A23B-BDC1F8BE8CC9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C6C96BE-A206-4715-B42E-138D0D8F3B79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1066320" y="1980720"/>
            <a:ext cx="762012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0D14E8F-F3DE-48AA-A985-65595F3AA1A9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6201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7EE9C2F-FAC1-4C75-B8FC-C0658A2C5D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37184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71240" y="1980720"/>
            <a:ext cx="37184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33726E-637A-4144-AC66-C1CBF0DA9668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37184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971240" y="1980720"/>
            <a:ext cx="37184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8636257-50E5-4183-AE5F-1B779D4FF1D3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41AEF99-EA1A-4AD2-9285-8999CA92521D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6940B13-941D-4E6B-BBD3-9D3D0082C1C9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971240" y="1980720"/>
            <a:ext cx="37184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066320" y="40903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0B724B8-46E8-4924-A78B-BABBD1C4B3C1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37184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971240" y="19807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971240" y="40903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36665CE-70BE-4058-B8D7-D2F7AF888294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971240" y="19807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1066320" y="4090320"/>
            <a:ext cx="7620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F7B39F7-2C42-48A9-B6FD-B1615838B31D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620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1066320" y="4090320"/>
            <a:ext cx="7620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3862A2A-327C-4DC1-B4DB-C5CC82E5CFD3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971240" y="19807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1066320" y="40903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971240" y="40903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F6937E4-1353-4F86-AABA-3A9582B8B2DA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2453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642840" y="1980720"/>
            <a:ext cx="2453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219360" y="1980720"/>
            <a:ext cx="2453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1066320" y="4090320"/>
            <a:ext cx="2453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642840" y="4090320"/>
            <a:ext cx="2453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219360" y="4090320"/>
            <a:ext cx="2453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ED27DFC-309C-42E6-A3BD-44F2FCD3A403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6199DC-E9C8-47F3-B75E-4352338315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6437E5-45CE-4C74-9B12-67437CDC5945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1066320" y="1980720"/>
            <a:ext cx="762012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90E0D9-18FA-419A-9C2D-053EB142A8E5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6201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56F790-2569-4758-8DB3-73E6597C912C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37184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971240" y="1980720"/>
            <a:ext cx="37184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B41660-7695-4B74-A6D1-A4567F2D9175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BDF0B5-6358-40A9-93FF-CC4A54EA10C4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640303-9232-4C35-BB28-170E66DBAAD3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971240" y="1980720"/>
            <a:ext cx="37184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1066320" y="40903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299CFB-AD4C-41B4-8291-76EB39007BB2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37184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971240" y="19807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971240" y="40903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840C63-3748-47FE-A61D-0FE5344AD53A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971240" y="19807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1066320" y="4090320"/>
            <a:ext cx="7620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8D3CDD-5691-4EEF-B97F-3E9D799CEB02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620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1066320" y="4090320"/>
            <a:ext cx="7620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D0E2B7-51B1-4334-A0DF-43BE5E832C0A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971240" y="19807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1066320" y="40903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971240" y="40903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B1D755-0983-41E7-A63B-BF40A07D77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F7281E-7DA4-4984-B6B9-283E06150DC8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2453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642840" y="1980720"/>
            <a:ext cx="2453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219360" y="1980720"/>
            <a:ext cx="2453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1066320" y="4090320"/>
            <a:ext cx="2453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642840" y="4090320"/>
            <a:ext cx="2453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219360" y="4090320"/>
            <a:ext cx="2453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BA9423-B55F-4609-A018-FB5D72B648E8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2955ED9-8E48-434F-BF88-6E826ED6ED93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1066320" y="1980720"/>
            <a:ext cx="762012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D03AC6B-1EA6-46BB-BAD4-52A1B9BEDA94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6201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C304986-8E7D-4A86-AB7F-2FB4B5816F9D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37184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971240" y="1980720"/>
            <a:ext cx="37184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38603C3-FB58-47FD-BABB-5E9F6C39C6E4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F7D9712-4EBF-49DF-857A-B43B9C4C4E24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1BA9B9D-19FE-48EF-99FD-4AE64B7139B8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971240" y="1980720"/>
            <a:ext cx="37184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1066320" y="40903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FEAE33C-B1C5-42C1-97C1-02EA99FF5DD7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37184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971240" y="19807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971240" y="40903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F870366-6421-4B22-AFFF-75279A43CE18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971240" y="19807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1066320" y="4090320"/>
            <a:ext cx="7620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84AB3CC-7A17-48AA-925D-8D490A3223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71240" y="1980720"/>
            <a:ext cx="37184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66320" y="40903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E4C295-A0A7-435A-A043-0ED6537D6C0C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620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1066320" y="4090320"/>
            <a:ext cx="7620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CE7DF5E-80D5-440F-BDE8-843B9ADFC853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971240" y="19807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1066320" y="40903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971240" y="40903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D5BA8C1-820E-4B95-9992-687B8BE9AF9D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2453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642840" y="1980720"/>
            <a:ext cx="2453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219360" y="1980720"/>
            <a:ext cx="2453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1066320" y="4090320"/>
            <a:ext cx="2453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3642840" y="4090320"/>
            <a:ext cx="2453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6219360" y="4090320"/>
            <a:ext cx="2453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F5B36C8-B4BD-4249-B8C8-75CBC76070EC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00258AE-E2DF-4816-B4FB-49672CF3F4BC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1066320" y="1980720"/>
            <a:ext cx="762012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842DABC-B35E-409E-91B6-B6EA209649C7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6201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D7C104A-9820-429C-9D98-AC9B939B1E94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37184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971240" y="1980720"/>
            <a:ext cx="37184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32F8E45-12F1-419F-A88E-36848EC77BB6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E305FFF-443F-4B72-B2FA-6AF0FB5146ED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BF5172B-6231-4303-8693-08283552B97E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971240" y="1980720"/>
            <a:ext cx="37184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1066320" y="40903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51AD568-B978-4F1C-95A4-EA01C419EE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37184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9807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71240" y="40903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27AB22-F4CC-4A0C-A0B3-604CFBE97BFF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37184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971240" y="19807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971240" y="40903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FEB384D-500A-4078-B250-F9C7E99A3DE6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971240" y="19807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1066320" y="4090320"/>
            <a:ext cx="7620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19DA1B5-A755-47A4-B7D3-BF400A5045AE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620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1066320" y="4090320"/>
            <a:ext cx="7620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4B0131A-531C-4AEA-9386-9D376DAC9675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971240" y="19807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1066320" y="40903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971240" y="40903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5528425-DA1B-4D86-8A27-961F1864003B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2453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3642840" y="1980720"/>
            <a:ext cx="2453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6219360" y="1980720"/>
            <a:ext cx="2453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1066320" y="4090320"/>
            <a:ext cx="2453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9" name="PlaceHolder 6"/>
          <p:cNvSpPr>
            <a:spLocks noGrp="1"/>
          </p:cNvSpPr>
          <p:nvPr>
            <p:ph/>
          </p:nvPr>
        </p:nvSpPr>
        <p:spPr>
          <a:xfrm>
            <a:off x="3642840" y="4090320"/>
            <a:ext cx="2453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0" name="PlaceHolder 7"/>
          <p:cNvSpPr>
            <a:spLocks noGrp="1"/>
          </p:cNvSpPr>
          <p:nvPr>
            <p:ph/>
          </p:nvPr>
        </p:nvSpPr>
        <p:spPr>
          <a:xfrm>
            <a:off x="6219360" y="4090320"/>
            <a:ext cx="2453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452CF8F-43DA-4B55-B10A-E1DBAA10DF7B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AC4FC3-6F59-423A-9D09-387AD0F3CE6C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1066320" y="1980720"/>
            <a:ext cx="762012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A54128-8F36-4F06-8C3D-C22CE0DCC2D1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6201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E90314-24C6-408D-801F-6B9E03B934B8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37184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971240" y="1980720"/>
            <a:ext cx="37184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6B4DD8-677B-46FF-9717-4AA545087FEF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B1C724-F9D8-4455-938A-42F1F99689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9807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6320" y="4090320"/>
            <a:ext cx="7620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635240-4B42-44C5-8865-D6F5FA13D234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0276CE-EA4E-403F-83F7-DC439783EEE6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971240" y="1980720"/>
            <a:ext cx="37184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1066320" y="40903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845DD6-973E-4267-8236-C78DC9A01466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37184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971240" y="19807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971240" y="40903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9D659F-9C5B-47EC-9D17-E646CFC16879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971240" y="19807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1066320" y="4090320"/>
            <a:ext cx="7620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1C52CE-0DD7-41B1-837F-32F3832DB68A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620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1066320" y="4090320"/>
            <a:ext cx="7620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0D79EF-BEBE-49DA-A3C6-0C93D48D9474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971240" y="19807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1066320" y="40903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971240" y="40903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B67C85-CAB4-41C0-B68C-C05ABBDF3B7C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2453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642840" y="1980720"/>
            <a:ext cx="2453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219360" y="1980720"/>
            <a:ext cx="2453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1066320" y="4090320"/>
            <a:ext cx="2453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642840" y="4090320"/>
            <a:ext cx="2453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219360" y="4090320"/>
            <a:ext cx="2453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936382-8D8A-4E77-A2EF-D4432FAC40C5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5679C8A-49C6-488D-BAEB-90F9AA5C35B0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1066320" y="1980720"/>
            <a:ext cx="762012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E357DA9-8626-4650-9A16-0D1101A3FD0C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6201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92A5314-D162-44EC-91FD-DF048E4076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CMS HHS Bckgrd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 Rounded MT Bold"/>
              </a:rPr>
              <a:t>Click to edit the title text format</a:t>
            </a: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066320" y="1980720"/>
            <a:ext cx="76201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3399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00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2285640" y="6305040"/>
            <a:ext cx="5257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4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Medicare FFS Handling of Error Transactions (TA1, 999, and 277CA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534160" y="6384960"/>
            <a:ext cx="53316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E5D9E-DD97-4000-9F95-8017BB52418E}" type="slidenum">
              <a:rPr b="1" lang="en-US" sz="16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 Rounded MT Bold"/>
              </a:rPr>
              <a:t>Click to edit the title text format</a:t>
            </a: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1066320" y="1980720"/>
            <a:ext cx="76201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3399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00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ftr" idx="18"/>
          </p:nvPr>
        </p:nvSpPr>
        <p:spPr>
          <a:xfrm>
            <a:off x="2285640" y="6305040"/>
            <a:ext cx="5257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4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Medicare FFS Handling of Error Transactions (TA1, 999, and 277CA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sldNum" idx="19"/>
          </p:nvPr>
        </p:nvSpPr>
        <p:spPr>
          <a:xfrm>
            <a:off x="8534160" y="6384960"/>
            <a:ext cx="53316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62F5B-7D09-4920-87CD-78D0F0872959}" type="slidenum">
              <a:rPr b="1" lang="en-US" sz="16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 Rounded MT Bold"/>
              </a:rPr>
              <a:t>Click to edit the title text format</a:t>
            </a: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1066320" y="1980720"/>
            <a:ext cx="76201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3399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00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 type="ftr" idx="20"/>
          </p:nvPr>
        </p:nvSpPr>
        <p:spPr>
          <a:xfrm>
            <a:off x="2285640" y="6305040"/>
            <a:ext cx="5257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4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Medicare FFS Handling of Error Transactions (TA1, 999, and 277CA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 type="sldNum" idx="21"/>
          </p:nvPr>
        </p:nvSpPr>
        <p:spPr>
          <a:xfrm>
            <a:off x="8534160" y="6384960"/>
            <a:ext cx="53316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F55BE-0BC7-4CE4-A2A7-01F732EFCAC4}" type="slidenum">
              <a:rPr b="1" lang="en-US" sz="16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 Rounded MT Bold"/>
              </a:rPr>
              <a:t>Click to edit the title text format</a:t>
            </a: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1066320" y="1980720"/>
            <a:ext cx="76201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3399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00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ftr" idx="22"/>
          </p:nvPr>
        </p:nvSpPr>
        <p:spPr>
          <a:xfrm>
            <a:off x="2285640" y="6305040"/>
            <a:ext cx="5257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4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Medicare FFS Handling of Error Transactions (TA1, 999, and 277CA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sldNum" idx="23"/>
          </p:nvPr>
        </p:nvSpPr>
        <p:spPr>
          <a:xfrm>
            <a:off x="8534160" y="6384960"/>
            <a:ext cx="53316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EECF5-975E-4546-B287-FEECF4E0FCD0}" type="slidenum">
              <a:rPr b="1" lang="en-US" sz="16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MS HHS Bckgrd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 Rounded MT Bold"/>
              </a:rPr>
              <a:t>Click to edit the title text format</a:t>
            </a: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66320" y="1980720"/>
            <a:ext cx="76201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3399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00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3"/>
          </p:nvPr>
        </p:nvSpPr>
        <p:spPr>
          <a:xfrm>
            <a:off x="2438280" y="6305040"/>
            <a:ext cx="47246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4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Medicare FFS Handling of Error Transactions (TA1, 999, and 277CA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 Rounded MT Bold"/>
              </a:rPr>
              <a:t>Click to edit the title text format</a:t>
            </a: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1066320" y="1980720"/>
            <a:ext cx="76201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3399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00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ftr" idx="4"/>
          </p:nvPr>
        </p:nvSpPr>
        <p:spPr>
          <a:xfrm>
            <a:off x="1066680" y="6305040"/>
            <a:ext cx="70106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4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Medicare FFS Handling of Error Transactions (TA1, 999, and 277CA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8534160" y="6384960"/>
            <a:ext cx="53316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BB60F-AE57-495B-BE0E-77B49FB55DF2}" type="slidenum">
              <a:rPr b="1" lang="en-US" sz="16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 Rounded MT Bold"/>
              </a:rPr>
              <a:t>Click to edit the title text format</a:t>
            </a: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1066320" y="1980720"/>
            <a:ext cx="76201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3399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00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6"/>
          </p:nvPr>
        </p:nvSpPr>
        <p:spPr>
          <a:xfrm>
            <a:off x="2285640" y="6305040"/>
            <a:ext cx="5257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4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Medicare FFS Handling of Error Transactions (TA1, 999, and 277CA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7"/>
          </p:nvPr>
        </p:nvSpPr>
        <p:spPr>
          <a:xfrm>
            <a:off x="8534160" y="6384960"/>
            <a:ext cx="53316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036F9-AB30-4E56-9F50-7D7869143A8E}" type="slidenum">
              <a:rPr b="1" lang="en-US" sz="16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 Rounded MT Bold"/>
              </a:rPr>
              <a:t>Click to edit the title text format</a:t>
            </a: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1066320" y="1980720"/>
            <a:ext cx="76201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3399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00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8"/>
          </p:nvPr>
        </p:nvSpPr>
        <p:spPr>
          <a:xfrm>
            <a:off x="2285640" y="6305040"/>
            <a:ext cx="5257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4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Medicare FFS Handling of Error Transactions (TA1, 999, and 277CA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sldNum" idx="9"/>
          </p:nvPr>
        </p:nvSpPr>
        <p:spPr>
          <a:xfrm>
            <a:off x="8534160" y="6384960"/>
            <a:ext cx="53316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2A8A0-3B1D-46DE-8E68-833C77B2439A}" type="slidenum">
              <a:rPr b="1" lang="en-US" sz="16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 Rounded MT Bold"/>
              </a:rPr>
              <a:t>Click to edit the title text format</a:t>
            </a: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1066320" y="1980720"/>
            <a:ext cx="76201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3399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00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 type="ftr" idx="10"/>
          </p:nvPr>
        </p:nvSpPr>
        <p:spPr>
          <a:xfrm>
            <a:off x="2285640" y="6305040"/>
            <a:ext cx="5257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4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Medicare FFS Handling of Error Transactions (TA1, 999, and 277CA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 type="sldNum" idx="11"/>
          </p:nvPr>
        </p:nvSpPr>
        <p:spPr>
          <a:xfrm>
            <a:off x="8534160" y="6384960"/>
            <a:ext cx="53316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7E3B3-267B-4519-A098-BC0A4DC46265}" type="slidenum">
              <a:rPr b="1" lang="en-US" sz="16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 Rounded MT Bold"/>
              </a:rPr>
              <a:t>Click to edit the title text format</a:t>
            </a: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1066320" y="1980720"/>
            <a:ext cx="76201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3399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00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ftr" idx="12"/>
          </p:nvPr>
        </p:nvSpPr>
        <p:spPr>
          <a:xfrm>
            <a:off x="2285640" y="6305040"/>
            <a:ext cx="5257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4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Medicare FFS Handling of Error Transactions (TA1, 999, and 277CA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 type="sldNum" idx="13"/>
          </p:nvPr>
        </p:nvSpPr>
        <p:spPr>
          <a:xfrm>
            <a:off x="8534160" y="6384960"/>
            <a:ext cx="53316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2A547-C67F-4359-BAD3-026F4A562C6E}" type="slidenum">
              <a:rPr b="1" lang="en-US" sz="16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 Rounded MT Bold"/>
              </a:rPr>
              <a:t>Click to edit the title text format</a:t>
            </a: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1066320" y="1980720"/>
            <a:ext cx="76201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3399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00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ftr" idx="14"/>
          </p:nvPr>
        </p:nvSpPr>
        <p:spPr>
          <a:xfrm>
            <a:off x="2285640" y="6305040"/>
            <a:ext cx="5257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4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Medicare FFS Handling of Error Transactions (TA1, 999, and 277CA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sldNum" idx="15"/>
          </p:nvPr>
        </p:nvSpPr>
        <p:spPr>
          <a:xfrm>
            <a:off x="8534160" y="6384960"/>
            <a:ext cx="53316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F0606-8FFF-4BE8-9DF2-BA40BE10CF11}" type="slidenum">
              <a:rPr b="1" lang="en-US" sz="16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 Rounded MT Bold"/>
              </a:rPr>
              <a:t>Click to edit the title text format</a:t>
            </a: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1066320" y="1980720"/>
            <a:ext cx="76201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3399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00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 type="ftr" idx="16"/>
          </p:nvPr>
        </p:nvSpPr>
        <p:spPr>
          <a:xfrm>
            <a:off x="2285640" y="6305040"/>
            <a:ext cx="5257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4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Medicare FFS Handling of Error Transactions (TA1, 999, and 277CA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 type="sldNum" idx="17"/>
          </p:nvPr>
        </p:nvSpPr>
        <p:spPr>
          <a:xfrm>
            <a:off x="8534160" y="6384960"/>
            <a:ext cx="53316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0905E-4783-49FE-9DDF-9BA2FFFC7A9D}" type="slidenum">
              <a:rPr b="1" lang="en-US" sz="16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2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219320" y="76176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 Rounded MT Bold"/>
              </a:rPr>
              <a:t>CMS Acknowledgements </a:t>
            </a:r>
            <a:br>
              <a:rPr sz="2800"/>
            </a:br>
            <a:r>
              <a:rPr b="1" lang="en-US" sz="2800" spc="-1" strike="noStrike">
                <a:solidFill>
                  <a:srgbClr val="003399"/>
                </a:solidFill>
                <a:latin typeface="Arial Rounded MT Bold"/>
              </a:rPr>
              <a:t>Overview</a:t>
            </a:r>
            <a:endParaRPr b="1" lang="en-US" sz="28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53416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451"/>
              </a:spcBef>
              <a:buSzPct val="18290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The EDI translator will perform all X12 syntax edits and CMS-selected HIPAA IG edits, and output the following: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marL="28116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3399"/>
              </a:solidFill>
              <a:latin typeface="Arial"/>
            </a:endParaRPr>
          </a:p>
          <a:p>
            <a:pPr lvl="2" marL="937080" indent="-187200">
              <a:spcBef>
                <a:spcPts val="400"/>
              </a:spcBef>
              <a:buSzPct val="131206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TA1 for rejected interchanges</a:t>
            </a: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  <a:p>
            <a:pPr lvl="2" marL="937080" indent="-187200">
              <a:spcBef>
                <a:spcPts val="400"/>
              </a:spcBef>
              <a:buSzPct val="131206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999 for rejected functional groups/transaction sets</a:t>
            </a: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  <a:p>
            <a:pPr lvl="2" marL="937080" indent="-187200">
              <a:spcBef>
                <a:spcPts val="400"/>
              </a:spcBef>
              <a:buSzPct val="131206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999 for accepted functional groups/transaction sets</a:t>
            </a: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  <a:p>
            <a:pPr lvl="3" marL="1311840" indent="-187200">
              <a:spcBef>
                <a:spcPts val="349"/>
              </a:spcBef>
              <a:buClr>
                <a:srgbClr val="0033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3399"/>
                </a:solidFill>
                <a:latin typeface="Arial"/>
              </a:rPr>
              <a:t>structurally sound non-compliant business units will be passed to CEM for rejection at the individual claim level (Accept with Errors)</a:t>
            </a:r>
            <a:endParaRPr b="0" lang="en-US" sz="1400" spc="-1" strike="noStrike">
              <a:solidFill>
                <a:srgbClr val="003399"/>
              </a:solidFill>
              <a:latin typeface="Arial"/>
            </a:endParaRPr>
          </a:p>
          <a:p>
            <a:pPr lvl="2" marL="937080" indent="-187200">
              <a:spcBef>
                <a:spcPts val="400"/>
              </a:spcBef>
              <a:buSzPct val="131206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CMS flat files for accepted transactions</a:t>
            </a: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  <a:p>
            <a:pPr lvl="2" marL="937080" indent="0">
              <a:spcBef>
                <a:spcPts val="1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3399"/>
              </a:solidFill>
              <a:latin typeface="Arial"/>
            </a:endParaRPr>
          </a:p>
          <a:p>
            <a:pPr marL="281160" indent="-281160">
              <a:spcBef>
                <a:spcPts val="451"/>
              </a:spcBef>
              <a:buSzPct val="18290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The CEM software will perform Medicare edits and CMS-selected IG edits, and produce the following: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lvl="2" marL="937080" indent="-187200">
              <a:spcBef>
                <a:spcPts val="400"/>
              </a:spcBef>
              <a:buSzPct val="131206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Assign claim control number to accepted claims</a:t>
            </a: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  <a:p>
            <a:pPr lvl="2" marL="937080" indent="-187200">
              <a:spcBef>
                <a:spcPts val="400"/>
              </a:spcBef>
              <a:buSzPct val="131206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CMS flat files for accepted transactions</a:t>
            </a: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  <a:p>
            <a:pPr lvl="2" marL="937080" indent="-187200">
              <a:spcBef>
                <a:spcPts val="400"/>
              </a:spcBef>
              <a:buSzPct val="131206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a 277CA for each accepted or rejected claim</a:t>
            </a: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  <a:p>
            <a:pPr lvl="1" marL="60912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3399"/>
              </a:solidFill>
              <a:latin typeface="Arial"/>
            </a:endParaRPr>
          </a:p>
          <a:p>
            <a:pPr marL="2811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This approach allows us to return individual claims as opposed to entire transactions sets when the error is not a syntactical structure issue </a:t>
            </a: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  <a:p>
            <a:pPr marL="281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                                  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281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8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4C942-C415-42A7-BCC8-71D8A6F46916}" type="slidenum">
              <a:rPr b="1" lang="en-US" sz="1600" spc="-1" strike="noStrike">
                <a:solidFill>
                  <a:srgbClr val="808080"/>
                </a:solidFill>
                <a:latin typeface="Arial"/>
              </a:rPr>
              <a:t>1</a:t>
            </a:fld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19800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 Rounded MT Bold"/>
              </a:rPr>
              <a:t>277CA Example </a:t>
            </a:r>
            <a:br>
              <a:rPr sz="3200"/>
            </a:br>
            <a:r>
              <a:rPr b="1" lang="en-US" sz="1800" spc="-1" strike="noStrike">
                <a:solidFill>
                  <a:srgbClr val="003399"/>
                </a:solidFill>
                <a:latin typeface="Arial Rounded MT Bold"/>
              </a:rPr>
              <a:t>(Table 2 – Loop 2000A - Information Source Detail)</a:t>
            </a:r>
            <a:endParaRPr b="1" lang="en-US" sz="18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564" name="Slide Number Placeholder 5"/>
          <p:cNvSpPr/>
          <p:nvPr/>
        </p:nvSpPr>
        <p:spPr>
          <a:xfrm>
            <a:off x="8610480" y="6537240"/>
            <a:ext cx="5335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CA4F3-FE61-45A1-A26F-495670FFA222}" type="slidenum">
              <a:rPr b="1" lang="en-US" sz="16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65" name=""/>
          <p:cNvGraphicFramePr/>
          <p:nvPr/>
        </p:nvGraphicFramePr>
        <p:xfrm>
          <a:off x="457200" y="1066680"/>
          <a:ext cx="8381880" cy="4664160"/>
        </p:xfrm>
        <a:graphic>
          <a:graphicData uri="http://schemas.openxmlformats.org/drawingml/2006/table">
            <a:tbl>
              <a:tblPr/>
              <a:tblGrid>
                <a:gridCol w="4038480"/>
                <a:gridCol w="4343400"/>
              </a:tblGrid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L&gt;1&gt;&gt;20&gt;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L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Hierarchical Level Segment I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Hierarchical ID Numb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Hierarchical Level Code (Information Source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Subordinate levels exis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8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M1&gt;AY&gt;2&gt;FIRST  CLEARINGHOUSE &gt;&gt;&gt;&gt;&gt;46&gt;CLHR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M1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Information Source Na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Y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Entity ID Code (Clearinghouse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Non-person ent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ST  CLEARINGHOUS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 Information Source Na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– ETIN qualifi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HR00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– ET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N&gt;1&gt;200102051635S00001ABCDE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N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Transaction Receipt Control Identifi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Current Transaction Trace Numb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102051635S00001ABCDEF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Information Source Application Trace Identifi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TP&gt;050&gt;D8&gt;201006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TP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Information Source Receipt D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5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Received qualifi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8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Date expressed as CCYYMMDD qualifi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00623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Information Source Receipt D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100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TP&gt;009&gt;D8&gt;201006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TP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 Information Source Process D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9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Process qualifi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8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 Date expressed as CCYYMMDD qualifi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00623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nformation Source Process D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0" y="122040"/>
            <a:ext cx="91440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 Rounded MT Bold"/>
              </a:rPr>
              <a:t>277CA Example </a:t>
            </a:r>
            <a:r>
              <a:rPr b="1" lang="en-US" sz="1800" spc="-1" strike="noStrike">
                <a:solidFill>
                  <a:srgbClr val="003399"/>
                </a:solidFill>
                <a:latin typeface="Arial Rounded MT Bold"/>
              </a:rPr>
              <a:t>(Table 2 – Loop 2000B - Information Receiver Detail)</a:t>
            </a:r>
            <a:endParaRPr b="1" lang="en-US" sz="18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567" name="Slide Number Placeholder 5"/>
          <p:cNvSpPr/>
          <p:nvPr/>
        </p:nvSpPr>
        <p:spPr>
          <a:xfrm>
            <a:off x="8610480" y="6534000"/>
            <a:ext cx="5335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566E7-4ECF-4EBB-A789-B50ABFA8729D}" type="slidenum">
              <a:rPr b="1" lang="en-US" sz="16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68" name=""/>
          <p:cNvGraphicFramePr/>
          <p:nvPr/>
        </p:nvGraphicFramePr>
        <p:xfrm>
          <a:off x="380880" y="838080"/>
          <a:ext cx="8382240" cy="5303880"/>
        </p:xfrm>
        <a:graphic>
          <a:graphicData uri="http://schemas.openxmlformats.org/drawingml/2006/table">
            <a:tbl>
              <a:tblPr/>
              <a:tblGrid>
                <a:gridCol w="4038840"/>
                <a:gridCol w="4343400"/>
              </a:tblGrid>
              <a:tr h="100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L&gt;2&gt;1&gt;21&gt;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L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Hierarchical Level Segment I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Hierarchical ID Numb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Hierarchical Parent I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Hierarchical Level Code (Information Receiver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Subordinate levels exis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8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M1&gt;41&gt;2&gt;BEST BILLING SERVICE&gt;&gt;&gt;&gt;&gt;46&gt;S00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M1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Information Receiver Na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Entity Identifier Code (Submitter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Non-person entity qualifi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ST BILLING SERVI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Information Source Na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ETIN qualifi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00001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ET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N&gt;2&gt;200202054285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N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Information Receiver Application Trace I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Reference transaction Trace Numbe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2020542857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– Claim Transaction Batch Numb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18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C&gt;A7:23&gt;20100624&gt;U&gt;1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C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Information Receiver Status Inform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7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Ack/Rejected for Invalid Inform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Returned to Ent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00624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Status information Effective D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 Reject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Total Submitted Charges for Unit Wor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TY&gt;AA&gt;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TY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Total Rejected Q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A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Unacknowledged Quantity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Total Rejected Quant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T&gt;YY&gt;1000.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Total Rejected Amou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Y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Returned qualifi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.0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Total Rejected Amou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0" y="-30600"/>
            <a:ext cx="91440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 Rounded MT Bold"/>
              </a:rPr>
              <a:t>277CA Example </a:t>
            </a:r>
            <a:r>
              <a:rPr b="1" lang="en-US" sz="1800" spc="-1" strike="noStrike">
                <a:solidFill>
                  <a:srgbClr val="003399"/>
                </a:solidFill>
                <a:latin typeface="Arial Rounded MT Bold"/>
              </a:rPr>
              <a:t>(Table 2 – Loop 2000C – Billing Provider of Service Detail)</a:t>
            </a:r>
            <a:endParaRPr b="1" lang="en-US" sz="18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570" name="Slide Number Placeholder 5"/>
          <p:cNvSpPr/>
          <p:nvPr/>
        </p:nvSpPr>
        <p:spPr>
          <a:xfrm>
            <a:off x="8610480" y="6534000"/>
            <a:ext cx="5335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68225-1080-4EE7-B640-00276152F3F8}" type="slidenum">
              <a:rPr b="1" lang="en-US" sz="16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71" name=""/>
          <p:cNvGraphicFramePr/>
          <p:nvPr/>
        </p:nvGraphicFramePr>
        <p:xfrm>
          <a:off x="304920" y="609480"/>
          <a:ext cx="8381880" cy="5837400"/>
        </p:xfrm>
        <a:graphic>
          <a:graphicData uri="http://schemas.openxmlformats.org/drawingml/2006/table">
            <a:tbl>
              <a:tblPr/>
              <a:tblGrid>
                <a:gridCol w="4038480"/>
                <a:gridCol w="4343400"/>
              </a:tblGrid>
              <a:tr h="93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L&gt;3&gt;2&gt;19&gt;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L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Hierarchical Level Segment I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Hierarchical ID Numb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Hierarchical Parent I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Hierarchical Level Code (Provider of Service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No Subordinate levels exis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09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M1&gt;85&gt;2&gt;SMITH CLINIC&gt;&gt;&gt;&gt;&gt;XX&gt;12345678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M1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  Billing Provider Name Segment I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Billing Provider Qualifi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Non-person qualifi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 CLINIC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– Billing Provider Nam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X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National Provider ID qualifi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3456789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Federal Tax I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9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N&gt;1&gt;SMITH78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N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Provider of Service Info Trace ID Segment I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Current Transaction Trace Numb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789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Provider of Service Info Trace I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4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C&gt;A7:511&gt;&gt;U&gt;1000.00&gt;&gt;&gt;&gt;&gt;A7:504:8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C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Billing Provider Status Information Segment I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7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Ack/Rejected for Invalid Informa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1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Invalid Charact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 Rejec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.00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Total Submitted Charges for Unit Wor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7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Ack/Rejected for Invalid Informa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4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Entity’s Last Nam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Billing Provider qualifi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9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TY&gt;QC&gt;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TY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Total Rejected Quantity Segment I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C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Quantity Disapproved qualifi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Total Rejected Quantit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9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T&gt;YY&gt;1000.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T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Total Rejected Amount Segment ID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Y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Returned Qualifi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.00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Total Rejected Amoun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9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&gt;20&gt;00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Transaction Set Trailer Segment I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Transaction Set Segment Coun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01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Transaction Set Control Numb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 Rounded MT Bold"/>
              </a:rPr>
              <a:t>Review the Purpose of the </a:t>
            </a:r>
            <a:br>
              <a:rPr sz="3200"/>
            </a:br>
            <a:r>
              <a:rPr b="1" lang="en-US" sz="3200" spc="-1" strike="noStrike">
                <a:solidFill>
                  <a:srgbClr val="003399"/>
                </a:solidFill>
                <a:latin typeface="Arial Rounded MT Bold"/>
              </a:rPr>
              <a:t>TA1, 999 and 277CA</a:t>
            </a: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4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en a TA1 is received, you will need to correct and resubmit the entire ISA – IEA Interchange;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99"/>
              </a:solidFill>
              <a:latin typeface="Arial"/>
            </a:endParaRPr>
          </a:p>
          <a:p>
            <a:pPr marL="339480" indent="-339480">
              <a:spcBef>
                <a:spcPts val="64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en a 999 is received, you may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003399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ecognize that syntax errors occurred and begin a correct/resubmit action,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003399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ecognize that all transactions were accepted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7354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99"/>
              </a:solidFill>
              <a:latin typeface="Arial"/>
            </a:endParaRPr>
          </a:p>
          <a:p>
            <a:pPr marL="339480" indent="-339480">
              <a:spcBef>
                <a:spcPts val="64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en a 277CA is received, you may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003399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ecognize that business rule errors occurred and begin a correct/resubmit action on specific claims,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003399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ecognize that all transactions were accepted,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735480" indent="-282960">
              <a:spcBef>
                <a:spcPts val="649"/>
              </a:spcBef>
              <a:buClr>
                <a:srgbClr val="003399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se returned claim numbers for future claim status inquirie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74" name="Slide Number Placeholder 5"/>
          <p:cNvSpPr/>
          <p:nvPr/>
        </p:nvSpPr>
        <p:spPr>
          <a:xfrm>
            <a:off x="8610480" y="6534000"/>
            <a:ext cx="5335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50A33-D274-4CA7-ADAC-E116E0196B35}" type="slidenum">
              <a:rPr b="1" lang="en-US" sz="16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Footer Placeholder 6"/>
          <p:cNvSpPr/>
          <p:nvPr/>
        </p:nvSpPr>
        <p:spPr>
          <a:xfrm>
            <a:off x="0" y="6534000"/>
            <a:ext cx="7010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Medicare FFS Handling of Error Transactions (TA1, 999, and 277CA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 Rounded MT Bold"/>
              </a:rPr>
              <a:t>Special Situations</a:t>
            </a: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en a business error is encountered, a claim will continue to be edited so that all Front End System errors are identified are returned to the submitter;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en a fatal error is encountered with data at the provider level, claim editing is NOT continued; all claims for that provider are returned without edit results.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78" name="Slide Number Placeholder 5"/>
          <p:cNvSpPr/>
          <p:nvPr/>
        </p:nvSpPr>
        <p:spPr>
          <a:xfrm>
            <a:off x="8610480" y="6534000"/>
            <a:ext cx="5335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5826A-23B5-4DB1-AF12-3F5D6EF23482}" type="slidenum">
              <a:rPr b="1" lang="en-US" sz="16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9" name="Footer Placeholder 6"/>
          <p:cNvSpPr/>
          <p:nvPr/>
        </p:nvSpPr>
        <p:spPr>
          <a:xfrm>
            <a:off x="0" y="6534000"/>
            <a:ext cx="7010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Medicare FFS Handling of Error Transactions (TA1, 999, and 277CA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 Rounded MT Bold"/>
              </a:rPr>
              <a:t>How will you use the </a:t>
            </a:r>
            <a:br>
              <a:rPr sz="3200"/>
            </a:br>
            <a:r>
              <a:rPr b="1" lang="en-US" sz="3200" spc="-1" strike="noStrike">
                <a:solidFill>
                  <a:srgbClr val="003399"/>
                </a:solidFill>
                <a:latin typeface="Arial Rounded MT Bold"/>
              </a:rPr>
              <a:t>TA1, 999 and 277CA?</a:t>
            </a: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6868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4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TA1 and 999 reflect technical problems that must be addressed by the software preparing the EDI transmission;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003399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“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rouble Tickets” will likely be addressed by technical resources to identify corrections needed before resubmission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7354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99"/>
              </a:solidFill>
              <a:latin typeface="Arial"/>
            </a:endParaRPr>
          </a:p>
          <a:p>
            <a:pPr marL="339480" indent="-339480">
              <a:spcBef>
                <a:spcPts val="64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277CA reflects a data problem that must be addressed by resources in the Billing area;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003399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Billing staff will likely need reports to be produced using the 277CA transaction in order to identify claim corrections before resubmission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99"/>
              </a:solidFill>
              <a:latin typeface="Arial"/>
            </a:endParaRPr>
          </a:p>
          <a:p>
            <a:pPr marL="339480" indent="-339480">
              <a:spcBef>
                <a:spcPts val="64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learinghouses and Vendors may consider offering a 277CA reporting capability.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8610480" y="6534000"/>
            <a:ext cx="5335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8A0AC-44F4-4409-A5E7-B1CE4E8EE6F6}" type="slidenum">
              <a:rPr b="1" lang="en-US" sz="16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Footer Placeholder 6"/>
          <p:cNvSpPr/>
          <p:nvPr/>
        </p:nvSpPr>
        <p:spPr>
          <a:xfrm>
            <a:off x="0" y="6534000"/>
            <a:ext cx="7010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Medicare FFS Handling of Error Transactions (TA1, 999, and 277CA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 Rounded MT Bold"/>
              </a:rPr>
              <a:t>Additional Information for X12 5010</a:t>
            </a: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5341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3399"/>
                </a:solidFill>
                <a:uFillTx/>
                <a:latin typeface="Arial"/>
              </a:rPr>
              <a:t>Purchase of Implementation Guides and access to Technical Question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99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X12: http://store.x12.org/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3399"/>
                </a:solidFill>
                <a:uFillTx/>
                <a:latin typeface="Arial"/>
              </a:rPr>
              <a:t>X12 Responses to Technical Comment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99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http://www.cms.hhs.gov/TransactionCodeSetsStands/ 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3399"/>
                </a:solidFill>
                <a:uFillTx/>
                <a:latin typeface="Arial"/>
              </a:rPr>
              <a:t>Other 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99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Request Changes to standards: www.hipaa-dsmo.org  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99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CMS Website for industry wide information: http://www.cms.hhs.gov/Versions5010andD0/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99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http://www.cms.hhs.gov/ElectronicBillingEDITrans/18_5010D0.asp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86" name="Slide Number Placeholder 5"/>
          <p:cNvSpPr/>
          <p:nvPr/>
        </p:nvSpPr>
        <p:spPr>
          <a:xfrm>
            <a:off x="8610480" y="6534000"/>
            <a:ext cx="5335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54256-8714-41B1-8AE4-B035FD3FDE48}" type="slidenum">
              <a:rPr b="1" lang="en-US" sz="16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ounded Rectangle 40"/>
          <p:cNvSpPr/>
          <p:nvPr/>
        </p:nvSpPr>
        <p:spPr>
          <a:xfrm>
            <a:off x="4267080" y="304920"/>
            <a:ext cx="2133720" cy="1447560"/>
          </a:xfrm>
          <a:prstGeom prst="roundRect">
            <a:avLst>
              <a:gd name="adj" fmla="val 16667"/>
            </a:avLst>
          </a:prstGeom>
          <a:solidFill>
            <a:srgbClr val="e4f3f4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SA Interchange 1</a:t>
            </a:r>
            <a:br>
              <a:rPr sz="1100"/>
            </a:br>
            <a:br>
              <a:rPr sz="1100"/>
            </a:br>
            <a:br>
              <a:rPr sz="1100"/>
            </a:br>
            <a:br>
              <a:rPr sz="1100"/>
            </a:b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EA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Rounded Rectangle 1"/>
          <p:cNvSpPr/>
          <p:nvPr/>
        </p:nvSpPr>
        <p:spPr>
          <a:xfrm>
            <a:off x="152280" y="76320"/>
            <a:ext cx="3810240" cy="6705360"/>
          </a:xfrm>
          <a:custGeom>
            <a:avLst/>
            <a:gdLst>
              <a:gd name="textAreaLeft" fmla="*/ 78480 w 3810240"/>
              <a:gd name="textAreaRight" fmla="*/ 3731760 w 3810240"/>
              <a:gd name="textAreaTop" fmla="*/ 78480 h 6705360"/>
              <a:gd name="textAreaBottom" fmla="*/ 6626880 h 6705360"/>
            </a:gdLst>
            <a:ahLst/>
            <a:rect l="textAreaLeft" t="textAreaTop" r="textAreaRight" b="textAreaBottom"/>
            <a:pathLst>
              <a:path w="21600" h="38011">
                <a:moveTo>
                  <a:pt x="1520" y="0"/>
                </a:moveTo>
                <a:arcTo wR="1520" hR="1520" stAng="16200000" swAng="-5400000"/>
                <a:lnTo>
                  <a:pt x="0" y="36491"/>
                </a:lnTo>
                <a:arcTo wR="1520" hR="1520" stAng="10800000" swAng="-5400000"/>
                <a:lnTo>
                  <a:pt x="20080" y="38011"/>
                </a:lnTo>
                <a:arcTo wR="1520" hR="1520" stAng="5400000" swAng="-5400000"/>
                <a:lnTo>
                  <a:pt x="21600" y="1520"/>
                </a:lnTo>
                <a:arcTo wR="1520" hR="1520" stAng="0" swAng="-5400000"/>
                <a:close/>
              </a:path>
            </a:pathLst>
          </a:custGeom>
          <a:solidFill>
            <a:srgbClr val="f1f9f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Rounded Rectangle 2"/>
          <p:cNvSpPr/>
          <p:nvPr/>
        </p:nvSpPr>
        <p:spPr>
          <a:xfrm>
            <a:off x="533520" y="2514600"/>
            <a:ext cx="3124080" cy="4114800"/>
          </a:xfrm>
          <a:custGeom>
            <a:avLst/>
            <a:gdLst>
              <a:gd name="textAreaLeft" fmla="*/ 86760 w 3124080"/>
              <a:gd name="textAreaRight" fmla="*/ 3037320 w 3124080"/>
              <a:gd name="textAreaTop" fmla="*/ 86760 h 4114800"/>
              <a:gd name="textAreaBottom" fmla="*/ 4028040 h 4114800"/>
            </a:gdLst>
            <a:ahLst/>
            <a:rect l="textAreaLeft" t="textAreaTop" r="textAreaRight" b="textAreaBottom"/>
            <a:pathLst>
              <a:path w="21600" h="28449">
                <a:moveTo>
                  <a:pt x="2056" y="0"/>
                </a:moveTo>
                <a:arcTo wR="2056" hR="2056" stAng="16200000" swAng="-5400000"/>
                <a:lnTo>
                  <a:pt x="0" y="26393"/>
                </a:lnTo>
                <a:arcTo wR="2056" hR="2056" stAng="10800000" swAng="-5400000"/>
                <a:lnTo>
                  <a:pt x="19544" y="28449"/>
                </a:lnTo>
                <a:arcTo wR="2056" hR="2056" stAng="5400000" swAng="-5400000"/>
                <a:lnTo>
                  <a:pt x="21600" y="2056"/>
                </a:lnTo>
                <a:arcTo wR="2056" hR="2056" stAng="0" swAng="-5400000"/>
                <a:close/>
              </a:path>
            </a:pathLst>
          </a:custGeom>
          <a:solidFill>
            <a:srgbClr val="e4f3f4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SA Interchange 2</a:t>
            </a:r>
            <a:br>
              <a:rPr sz="1100"/>
            </a:br>
            <a:br>
              <a:rPr sz="1100"/>
            </a:br>
            <a:br>
              <a:rPr sz="1100"/>
            </a:br>
            <a:br>
              <a:rPr sz="1100"/>
            </a:br>
            <a:br>
              <a:rPr sz="1100"/>
            </a:br>
            <a:br>
              <a:rPr sz="1100"/>
            </a:br>
            <a:br>
              <a:rPr sz="1100"/>
            </a:br>
            <a:br>
              <a:rPr sz="1100"/>
            </a:br>
            <a:br>
              <a:rPr sz="1100"/>
            </a:br>
            <a:br>
              <a:rPr sz="1100"/>
            </a:br>
            <a:br>
              <a:rPr sz="1100"/>
            </a:br>
            <a:br>
              <a:rPr sz="1100"/>
            </a:br>
            <a:br>
              <a:rPr sz="1100"/>
            </a:br>
            <a:br>
              <a:rPr sz="1100"/>
            </a:br>
            <a:br>
              <a:rPr sz="1100"/>
            </a:br>
            <a:br>
              <a:rPr sz="1100"/>
            </a:br>
            <a:br>
              <a:rPr sz="1100"/>
            </a:br>
            <a:br>
              <a:rPr sz="1100"/>
            </a:br>
            <a:br>
              <a:rPr sz="1100"/>
            </a:br>
            <a:br>
              <a:rPr sz="1100"/>
            </a:br>
            <a:br>
              <a:rPr sz="1100"/>
            </a:br>
            <a:br>
              <a:rPr sz="1100"/>
            </a:b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EA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Rounded Rectangle 10"/>
          <p:cNvSpPr/>
          <p:nvPr/>
        </p:nvSpPr>
        <p:spPr>
          <a:xfrm>
            <a:off x="817560" y="4876920"/>
            <a:ext cx="2611440" cy="1500120"/>
          </a:xfrm>
          <a:prstGeom prst="roundRect">
            <a:avLst>
              <a:gd name="adj" fmla="val 16667"/>
            </a:avLst>
          </a:prstGeom>
          <a:solidFill>
            <a:srgbClr val="d6ece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S Functional Group 3 (005010X222)</a:t>
            </a: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E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Rounded Rectangle 3"/>
          <p:cNvSpPr/>
          <p:nvPr/>
        </p:nvSpPr>
        <p:spPr>
          <a:xfrm>
            <a:off x="817560" y="2895480"/>
            <a:ext cx="2611440" cy="1981440"/>
          </a:xfrm>
          <a:prstGeom prst="roundRect">
            <a:avLst>
              <a:gd name="adj" fmla="val 16667"/>
            </a:avLst>
          </a:prstGeom>
          <a:solidFill>
            <a:srgbClr val="d6ece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S Functional Group 2 (005010X222)</a:t>
            </a: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E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ounded Rectangle 4"/>
          <p:cNvSpPr/>
          <p:nvPr/>
        </p:nvSpPr>
        <p:spPr>
          <a:xfrm>
            <a:off x="1181160" y="3270240"/>
            <a:ext cx="1790640" cy="768240"/>
          </a:xfrm>
          <a:prstGeom prst="roundRect">
            <a:avLst>
              <a:gd name="adj" fmla="val 16667"/>
            </a:avLst>
          </a:prstGeom>
          <a:solidFill>
            <a:srgbClr val="d9d9d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T Transaction Set 1 (837P)</a:t>
            </a:r>
            <a:br>
              <a:rPr sz="900"/>
            </a:b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CLM</a:t>
            </a:r>
            <a:br>
              <a:rPr sz="900"/>
            </a:b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CLM </a:t>
            </a:r>
            <a:br>
              <a:rPr sz="900"/>
            </a:b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CLM</a:t>
            </a:r>
            <a:br>
              <a:rPr sz="900"/>
            </a:b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E</a:t>
            </a: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Rounded Rectangle 8"/>
          <p:cNvSpPr/>
          <p:nvPr/>
        </p:nvSpPr>
        <p:spPr>
          <a:xfrm>
            <a:off x="1181160" y="4038480"/>
            <a:ext cx="1790640" cy="630360"/>
          </a:xfrm>
          <a:prstGeom prst="roundRect">
            <a:avLst>
              <a:gd name="adj" fmla="val 16667"/>
            </a:avLst>
          </a:prstGeom>
          <a:solidFill>
            <a:srgbClr val="d9d9d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T Transaction Set 2 (837P)</a:t>
            </a:r>
            <a:br>
              <a:rPr sz="900"/>
            </a:b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CLM</a:t>
            </a:r>
            <a:br>
              <a:rPr sz="900"/>
            </a:b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CLM</a:t>
            </a:r>
            <a:br>
              <a:rPr sz="900"/>
            </a:b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E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1" name="TextBox 12"/>
          <p:cNvSpPr/>
          <p:nvPr/>
        </p:nvSpPr>
        <p:spPr>
          <a:xfrm>
            <a:off x="152280" y="152280"/>
            <a:ext cx="19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ransmission File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2" name="Rounded Rectangle 13"/>
          <p:cNvSpPr/>
          <p:nvPr/>
        </p:nvSpPr>
        <p:spPr>
          <a:xfrm>
            <a:off x="533520" y="457200"/>
            <a:ext cx="3124080" cy="2057400"/>
          </a:xfrm>
          <a:prstGeom prst="roundRect">
            <a:avLst>
              <a:gd name="adj" fmla="val 16667"/>
            </a:avLst>
          </a:prstGeom>
          <a:solidFill>
            <a:srgbClr val="e4f3f4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SA Interchange 1</a:t>
            </a:r>
            <a:br>
              <a:rPr sz="1100"/>
            </a:br>
            <a:br>
              <a:rPr sz="1100"/>
            </a:br>
            <a:br>
              <a:rPr sz="1100"/>
            </a:br>
            <a:br>
              <a:rPr sz="1100"/>
            </a:br>
            <a:br>
              <a:rPr sz="1100"/>
            </a:br>
            <a:br>
              <a:rPr sz="1100"/>
            </a:br>
            <a:br>
              <a:rPr sz="1100"/>
            </a:br>
            <a:br>
              <a:rPr sz="1100"/>
            </a:br>
            <a:br>
              <a:rPr sz="1100"/>
            </a:br>
            <a:br>
              <a:rPr sz="1100"/>
            </a:b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EA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3" name="Rounded Rectangle 17"/>
          <p:cNvSpPr/>
          <p:nvPr/>
        </p:nvSpPr>
        <p:spPr>
          <a:xfrm>
            <a:off x="762120" y="838080"/>
            <a:ext cx="2666880" cy="1447920"/>
          </a:xfrm>
          <a:prstGeom prst="roundRect">
            <a:avLst>
              <a:gd name="adj" fmla="val 16667"/>
            </a:avLst>
          </a:prstGeom>
          <a:solidFill>
            <a:srgbClr val="d6ece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S Functional Group 1 (005010X212)</a:t>
            </a: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E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4" name="Rounded Rectangle 18"/>
          <p:cNvSpPr/>
          <p:nvPr/>
        </p:nvSpPr>
        <p:spPr>
          <a:xfrm>
            <a:off x="1066680" y="1143000"/>
            <a:ext cx="1828800" cy="838080"/>
          </a:xfrm>
          <a:prstGeom prst="roundRect">
            <a:avLst>
              <a:gd name="adj" fmla="val 16667"/>
            </a:avLst>
          </a:prstGeom>
          <a:solidFill>
            <a:srgbClr val="d9d9d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T Transaction Set (276)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Claim 1 Inquiry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Claim 2 Inquiry 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Claim 3 Inquiry </a:t>
            </a:r>
            <a:br>
              <a:rPr sz="900"/>
            </a:b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E</a:t>
            </a: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495" name="Straight Arrow Connector 60"/>
          <p:cNvCxnSpPr/>
          <p:nvPr/>
        </p:nvCxnSpPr>
        <p:spPr>
          <a:xfrm>
            <a:off x="3428640" y="1219320"/>
            <a:ext cx="106740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96" name="Rounded Rectangle 36"/>
          <p:cNvSpPr/>
          <p:nvPr/>
        </p:nvSpPr>
        <p:spPr>
          <a:xfrm>
            <a:off x="1171440" y="5181480"/>
            <a:ext cx="1800360" cy="900360"/>
          </a:xfrm>
          <a:prstGeom prst="roundRect">
            <a:avLst>
              <a:gd name="adj" fmla="val 16667"/>
            </a:avLst>
          </a:prstGeom>
          <a:solidFill>
            <a:srgbClr val="d9d9d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T Transaction Set 3 (837P)</a:t>
            </a:r>
            <a:br>
              <a:rPr sz="900"/>
            </a:b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CLM</a:t>
            </a:r>
            <a:br>
              <a:rPr sz="900"/>
            </a:b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CLM </a:t>
            </a:r>
            <a:br>
              <a:rPr sz="900"/>
            </a:b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CLM</a:t>
            </a:r>
            <a:br>
              <a:rPr sz="900"/>
            </a:b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E</a:t>
            </a: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7" name="Rounded Rectangle 39"/>
          <p:cNvSpPr/>
          <p:nvPr/>
        </p:nvSpPr>
        <p:spPr>
          <a:xfrm>
            <a:off x="4495680" y="609480"/>
            <a:ext cx="1676520" cy="838440"/>
          </a:xfrm>
          <a:prstGeom prst="roundRect">
            <a:avLst>
              <a:gd name="adj" fmla="val 16667"/>
            </a:avLst>
          </a:prstGeom>
          <a:solidFill>
            <a:srgbClr val="d6ece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S Functional Group 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ST 999 (for GS 1) 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SE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E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498" name="Straight Arrow Connector 41"/>
          <p:cNvCxnSpPr/>
          <p:nvPr/>
        </p:nvCxnSpPr>
        <p:spPr>
          <a:xfrm>
            <a:off x="3657240" y="762120"/>
            <a:ext cx="61020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99" name="Straight Arrow Connector 27"/>
          <p:cNvCxnSpPr>
            <a:endCxn id="500" idx="1"/>
          </p:cNvCxnSpPr>
          <p:nvPr/>
        </p:nvCxnSpPr>
        <p:spPr>
          <a:xfrm>
            <a:off x="2895120" y="1752480"/>
            <a:ext cx="3886920" cy="2548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00" name="Rectangle 29"/>
          <p:cNvSpPr/>
          <p:nvPr/>
        </p:nvSpPr>
        <p:spPr>
          <a:xfrm>
            <a:off x="6781680" y="1752480"/>
            <a:ext cx="20433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ntinue CEM processing and generation of </a:t>
            </a:r>
            <a:br>
              <a:rPr sz="900"/>
            </a:b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277 response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501" name="Straight Arrow Connector 30"/>
          <p:cNvCxnSpPr/>
          <p:nvPr/>
        </p:nvCxnSpPr>
        <p:spPr>
          <a:xfrm>
            <a:off x="3657240" y="2743200"/>
            <a:ext cx="61020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02" name="Slide Number Placeholder 31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BB7F8-CD0F-4DAA-A64A-011998D3F147}" type="slidenum">
              <a:rPr b="1" lang="en-US" sz="11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3" name="Rounded Rectangle 43"/>
          <p:cNvSpPr/>
          <p:nvPr/>
        </p:nvSpPr>
        <p:spPr>
          <a:xfrm>
            <a:off x="4267080" y="2057400"/>
            <a:ext cx="2133720" cy="2209680"/>
          </a:xfrm>
          <a:custGeom>
            <a:avLst/>
            <a:gdLst>
              <a:gd name="textAreaLeft" fmla="*/ 104040 w 2133720"/>
              <a:gd name="textAreaRight" fmla="*/ 2029680 w 2133720"/>
              <a:gd name="textAreaTop" fmla="*/ 104040 h 2209680"/>
              <a:gd name="textAreaBottom" fmla="*/ 2105640 h 2209680"/>
            </a:gdLst>
            <a:ahLst/>
            <a:rect l="textAreaLeft" t="textAreaTop" r="textAreaRight" b="textAreaBottom"/>
            <a:pathLst>
              <a:path w="21600" h="22369">
                <a:moveTo>
                  <a:pt x="3600" y="0"/>
                </a:moveTo>
                <a:arcTo wR="3600" hR="3600" stAng="16200000" swAng="-5400000"/>
                <a:lnTo>
                  <a:pt x="0" y="18769"/>
                </a:lnTo>
                <a:arcTo wR="3600" hR="3600" stAng="10800000" swAng="-5400000"/>
                <a:lnTo>
                  <a:pt x="18000" y="223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e4f3f4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SA Interchange 2</a:t>
            </a:r>
            <a:br>
              <a:rPr sz="1100"/>
            </a:br>
            <a:br>
              <a:rPr sz="1100"/>
            </a:br>
            <a:br>
              <a:rPr sz="1100"/>
            </a:br>
            <a:br>
              <a:rPr sz="1100"/>
            </a:br>
            <a:br>
              <a:rPr sz="1100"/>
            </a:br>
            <a:br>
              <a:rPr sz="1100"/>
            </a:br>
            <a:br>
              <a:rPr sz="1100"/>
            </a:br>
            <a:br>
              <a:rPr sz="1100"/>
            </a:br>
            <a:br>
              <a:rPr sz="1100"/>
            </a:br>
            <a:br>
              <a:rPr sz="1100"/>
            </a:br>
            <a:br>
              <a:rPr sz="1100"/>
            </a:b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EA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4" name="Rounded Rectangle 47"/>
          <p:cNvSpPr/>
          <p:nvPr/>
        </p:nvSpPr>
        <p:spPr>
          <a:xfrm>
            <a:off x="4495680" y="2514600"/>
            <a:ext cx="1676520" cy="762120"/>
          </a:xfrm>
          <a:prstGeom prst="roundRect">
            <a:avLst>
              <a:gd name="adj" fmla="val 16667"/>
            </a:avLst>
          </a:prstGeom>
          <a:solidFill>
            <a:srgbClr val="d6ece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S Functional Group 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ST 999 (for GS 2) 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SE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E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5" name="Rounded Rectangle 48"/>
          <p:cNvSpPr/>
          <p:nvPr/>
        </p:nvSpPr>
        <p:spPr>
          <a:xfrm>
            <a:off x="4495680" y="3276720"/>
            <a:ext cx="1676520" cy="761760"/>
          </a:xfrm>
          <a:prstGeom prst="roundRect">
            <a:avLst>
              <a:gd name="adj" fmla="val 16667"/>
            </a:avLst>
          </a:prstGeom>
          <a:solidFill>
            <a:srgbClr val="d6ece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S Functional Group 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ST 999 (for GS 3) 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SE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E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6" name="Rounded Rectangle 56"/>
          <p:cNvSpPr/>
          <p:nvPr/>
        </p:nvSpPr>
        <p:spPr>
          <a:xfrm>
            <a:off x="6705720" y="4208400"/>
            <a:ext cx="2133360" cy="2497320"/>
          </a:xfrm>
          <a:custGeom>
            <a:avLst/>
            <a:gdLst>
              <a:gd name="textAreaLeft" fmla="*/ 104040 w 2133360"/>
              <a:gd name="textAreaRight" fmla="*/ 2029320 w 2133360"/>
              <a:gd name="textAreaTop" fmla="*/ 104040 h 2497320"/>
              <a:gd name="textAreaBottom" fmla="*/ 2393280 h 2497320"/>
            </a:gdLst>
            <a:ahLst/>
            <a:rect l="textAreaLeft" t="textAreaTop" r="textAreaRight" b="textAreaBottom"/>
            <a:pathLst>
              <a:path w="21600" h="25284">
                <a:moveTo>
                  <a:pt x="3600" y="0"/>
                </a:moveTo>
                <a:arcTo wR="3600" hR="3600" stAng="16200000" swAng="-5400000"/>
                <a:lnTo>
                  <a:pt x="0" y="21684"/>
                </a:lnTo>
                <a:arcTo wR="3600" hR="3600" stAng="10800000" swAng="-5400000"/>
                <a:lnTo>
                  <a:pt x="18000" y="252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e4f3f4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SA Interchange 2</a:t>
            </a:r>
            <a:br>
              <a:rPr sz="1100"/>
            </a:br>
            <a:br>
              <a:rPr sz="1100"/>
            </a:br>
            <a:br>
              <a:rPr sz="1100"/>
            </a:b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br>
              <a:rPr sz="1100"/>
            </a:br>
            <a:br>
              <a:rPr sz="1100"/>
            </a:br>
            <a:br>
              <a:rPr sz="1100"/>
            </a:br>
            <a:br>
              <a:rPr sz="1100"/>
            </a:br>
            <a:br>
              <a:rPr sz="1100"/>
            </a:br>
            <a:br>
              <a:rPr sz="1100"/>
            </a:b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EA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7" name="Rounded Rectangle 49"/>
          <p:cNvSpPr/>
          <p:nvPr/>
        </p:nvSpPr>
        <p:spPr>
          <a:xfrm>
            <a:off x="6934320" y="4589640"/>
            <a:ext cx="1676160" cy="1066680"/>
          </a:xfrm>
          <a:prstGeom prst="roundRect">
            <a:avLst>
              <a:gd name="adj" fmla="val 16667"/>
            </a:avLst>
          </a:prstGeom>
          <a:solidFill>
            <a:srgbClr val="d6ece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S Functional Group 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ST 277CA (TS 1)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SE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ST 277CA (TS 2)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SE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E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8" name="Rounded Rectangle 50"/>
          <p:cNvSpPr/>
          <p:nvPr/>
        </p:nvSpPr>
        <p:spPr>
          <a:xfrm>
            <a:off x="6934320" y="5656320"/>
            <a:ext cx="1676160" cy="762120"/>
          </a:xfrm>
          <a:prstGeom prst="roundRect">
            <a:avLst>
              <a:gd name="adj" fmla="val 16667"/>
            </a:avLst>
          </a:prstGeom>
          <a:solidFill>
            <a:srgbClr val="d6ece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S Functional Group 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ST 277CA (TS 3)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SE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E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9" name="TextBox 57"/>
          <p:cNvSpPr/>
          <p:nvPr/>
        </p:nvSpPr>
        <p:spPr>
          <a:xfrm>
            <a:off x="4724280" y="586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TS Translator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0" name="TextBox 58"/>
          <p:cNvSpPr/>
          <p:nvPr/>
        </p:nvSpPr>
        <p:spPr>
          <a:xfrm>
            <a:off x="7162920" y="13500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EM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511" name="Straight Arrow Connector 54"/>
          <p:cNvCxnSpPr>
            <a:endCxn id="504" idx="1"/>
          </p:cNvCxnSpPr>
          <p:nvPr/>
        </p:nvCxnSpPr>
        <p:spPr>
          <a:xfrm flipV="1">
            <a:off x="3428640" y="2894760"/>
            <a:ext cx="1067400" cy="3056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12" name="Straight Arrow Connector 65"/>
          <p:cNvCxnSpPr/>
          <p:nvPr/>
        </p:nvCxnSpPr>
        <p:spPr>
          <a:xfrm flipV="1">
            <a:off x="3427920" y="3733200"/>
            <a:ext cx="1067400" cy="14482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13" name="Straight Arrow Connector 46"/>
          <p:cNvCxnSpPr/>
          <p:nvPr/>
        </p:nvCxnSpPr>
        <p:spPr>
          <a:xfrm>
            <a:off x="2971800" y="3962160"/>
            <a:ext cx="4115520" cy="99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14" name="Straight Arrow Connector 52"/>
          <p:cNvCxnSpPr/>
          <p:nvPr/>
        </p:nvCxnSpPr>
        <p:spPr>
          <a:xfrm>
            <a:off x="2971800" y="4343400"/>
            <a:ext cx="4039200" cy="9151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15" name="Straight Arrow Connector 59"/>
          <p:cNvCxnSpPr/>
          <p:nvPr/>
        </p:nvCxnSpPr>
        <p:spPr>
          <a:xfrm>
            <a:off x="2971800" y="5562720"/>
            <a:ext cx="4039200" cy="4579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16" name="Straight Connector 77"/>
          <p:cNvSpPr/>
          <p:nvPr/>
        </p:nvSpPr>
        <p:spPr>
          <a:xfrm>
            <a:off x="6553080" y="152280"/>
            <a:ext cx="0" cy="6477120"/>
          </a:xfrm>
          <a:prstGeom prst="line">
            <a:avLst/>
          </a:prstGeom>
          <a:ln w="38160">
            <a:solidFill>
              <a:srgbClr val="b6dcd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517" name="Straight Arrow Connector 84"/>
          <p:cNvCxnSpPr>
            <a:endCxn id="506" idx="1"/>
          </p:cNvCxnSpPr>
          <p:nvPr/>
        </p:nvCxnSpPr>
        <p:spPr>
          <a:xfrm>
            <a:off x="3657240" y="5334120"/>
            <a:ext cx="3048840" cy="1245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ounded Rectangle 40"/>
          <p:cNvSpPr/>
          <p:nvPr/>
        </p:nvSpPr>
        <p:spPr>
          <a:xfrm>
            <a:off x="4191120" y="304920"/>
            <a:ext cx="2133360" cy="1447560"/>
          </a:xfrm>
          <a:prstGeom prst="roundRect">
            <a:avLst>
              <a:gd name="adj" fmla="val 16667"/>
            </a:avLst>
          </a:prstGeom>
          <a:solidFill>
            <a:srgbClr val="e4f3f4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SA Interchange 1</a:t>
            </a:r>
            <a:br>
              <a:rPr sz="1100"/>
            </a:br>
            <a:br>
              <a:rPr sz="1100"/>
            </a:br>
            <a:br>
              <a:rPr sz="1100"/>
            </a:br>
            <a:br>
              <a:rPr sz="1100"/>
            </a:b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EA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ounded Rectangle 1"/>
          <p:cNvSpPr/>
          <p:nvPr/>
        </p:nvSpPr>
        <p:spPr>
          <a:xfrm>
            <a:off x="152280" y="76320"/>
            <a:ext cx="3810240" cy="6705360"/>
          </a:xfrm>
          <a:custGeom>
            <a:avLst/>
            <a:gdLst>
              <a:gd name="textAreaLeft" fmla="*/ 78480 w 3810240"/>
              <a:gd name="textAreaRight" fmla="*/ 3731760 w 3810240"/>
              <a:gd name="textAreaTop" fmla="*/ 78480 h 6705360"/>
              <a:gd name="textAreaBottom" fmla="*/ 6626880 h 6705360"/>
            </a:gdLst>
            <a:ahLst/>
            <a:rect l="textAreaLeft" t="textAreaTop" r="textAreaRight" b="textAreaBottom"/>
            <a:pathLst>
              <a:path w="21600" h="38011">
                <a:moveTo>
                  <a:pt x="1520" y="0"/>
                </a:moveTo>
                <a:arcTo wR="1520" hR="1520" stAng="16200000" swAng="-5400000"/>
                <a:lnTo>
                  <a:pt x="0" y="36491"/>
                </a:lnTo>
                <a:arcTo wR="1520" hR="1520" stAng="10800000" swAng="-5400000"/>
                <a:lnTo>
                  <a:pt x="20080" y="38011"/>
                </a:lnTo>
                <a:arcTo wR="1520" hR="1520" stAng="5400000" swAng="-5400000"/>
                <a:lnTo>
                  <a:pt x="21600" y="1520"/>
                </a:lnTo>
                <a:arcTo wR="1520" hR="1520" stAng="0" swAng="-5400000"/>
                <a:close/>
              </a:path>
            </a:pathLst>
          </a:custGeom>
          <a:solidFill>
            <a:srgbClr val="f1f9f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0" name="Rounded Rectangle 2"/>
          <p:cNvSpPr/>
          <p:nvPr/>
        </p:nvSpPr>
        <p:spPr>
          <a:xfrm>
            <a:off x="457200" y="609480"/>
            <a:ext cx="3124080" cy="4114800"/>
          </a:xfrm>
          <a:custGeom>
            <a:avLst/>
            <a:gdLst>
              <a:gd name="textAreaLeft" fmla="*/ 86760 w 3124080"/>
              <a:gd name="textAreaRight" fmla="*/ 3037320 w 3124080"/>
              <a:gd name="textAreaTop" fmla="*/ 86760 h 4114800"/>
              <a:gd name="textAreaBottom" fmla="*/ 4028040 h 4114800"/>
            </a:gdLst>
            <a:ahLst/>
            <a:rect l="textAreaLeft" t="textAreaTop" r="textAreaRight" b="textAreaBottom"/>
            <a:pathLst>
              <a:path w="21600" h="28449">
                <a:moveTo>
                  <a:pt x="2056" y="0"/>
                </a:moveTo>
                <a:arcTo wR="2056" hR="2056" stAng="16200000" swAng="-5400000"/>
                <a:lnTo>
                  <a:pt x="0" y="26393"/>
                </a:lnTo>
                <a:arcTo wR="2056" hR="2056" stAng="10800000" swAng="-5400000"/>
                <a:lnTo>
                  <a:pt x="19544" y="28449"/>
                </a:lnTo>
                <a:arcTo wR="2056" hR="2056" stAng="5400000" swAng="-5400000"/>
                <a:lnTo>
                  <a:pt x="21600" y="2056"/>
                </a:lnTo>
                <a:arcTo wR="2056" hR="2056" stAng="0" swAng="-5400000"/>
                <a:close/>
              </a:path>
            </a:pathLst>
          </a:custGeom>
          <a:solidFill>
            <a:srgbClr val="e4f3f4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SA Interchange 1</a:t>
            </a:r>
            <a:br>
              <a:rPr sz="1100"/>
            </a:br>
            <a:br>
              <a:rPr sz="1100"/>
            </a:br>
            <a:br>
              <a:rPr sz="1100"/>
            </a:br>
            <a:br>
              <a:rPr sz="1100"/>
            </a:br>
            <a:br>
              <a:rPr sz="1100"/>
            </a:br>
            <a:br>
              <a:rPr sz="1100"/>
            </a:br>
            <a:br>
              <a:rPr sz="1100"/>
            </a:br>
            <a:br>
              <a:rPr sz="1100"/>
            </a:br>
            <a:br>
              <a:rPr sz="1100"/>
            </a:br>
            <a:br>
              <a:rPr sz="1100"/>
            </a:br>
            <a:br>
              <a:rPr sz="1100"/>
            </a:br>
            <a:br>
              <a:rPr sz="1100"/>
            </a:b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EA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1" name="Rounded Rectangle 3"/>
          <p:cNvSpPr/>
          <p:nvPr/>
        </p:nvSpPr>
        <p:spPr>
          <a:xfrm>
            <a:off x="741240" y="990720"/>
            <a:ext cx="2611440" cy="1981080"/>
          </a:xfrm>
          <a:prstGeom prst="roundRect">
            <a:avLst>
              <a:gd name="adj" fmla="val 16667"/>
            </a:avLst>
          </a:prstGeom>
          <a:solidFill>
            <a:srgbClr val="d6ece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S Functional Group 1 (005010X222)</a:t>
            </a: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E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2" name="Rounded Rectangle 4"/>
          <p:cNvSpPr/>
          <p:nvPr/>
        </p:nvSpPr>
        <p:spPr>
          <a:xfrm>
            <a:off x="1104840" y="1365120"/>
            <a:ext cx="1790640" cy="768600"/>
          </a:xfrm>
          <a:prstGeom prst="roundRect">
            <a:avLst>
              <a:gd name="adj" fmla="val 16667"/>
            </a:avLst>
          </a:prstGeom>
          <a:solidFill>
            <a:srgbClr val="d9d9d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T Transaction Set 1 (837P)</a:t>
            </a:r>
            <a:br>
              <a:rPr sz="900"/>
            </a:b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CLM</a:t>
            </a:r>
            <a:br>
              <a:rPr sz="900"/>
            </a:b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CLM </a:t>
            </a:r>
            <a:br>
              <a:rPr sz="900"/>
            </a:b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CLM</a:t>
            </a:r>
            <a:br>
              <a:rPr sz="900"/>
            </a:b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E</a:t>
            </a: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3" name="Rounded Rectangle 8"/>
          <p:cNvSpPr/>
          <p:nvPr/>
        </p:nvSpPr>
        <p:spPr>
          <a:xfrm>
            <a:off x="1104840" y="2133720"/>
            <a:ext cx="1790640" cy="630000"/>
          </a:xfrm>
          <a:prstGeom prst="roundRect">
            <a:avLst>
              <a:gd name="adj" fmla="val 16667"/>
            </a:avLst>
          </a:prstGeom>
          <a:solidFill>
            <a:srgbClr val="d9d9d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T Transaction Set 2 (837P)</a:t>
            </a:r>
            <a:br>
              <a:rPr sz="900"/>
            </a:b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CLM</a:t>
            </a:r>
            <a:br>
              <a:rPr sz="900"/>
            </a:b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CLM</a:t>
            </a:r>
            <a:br>
              <a:rPr sz="900"/>
            </a:b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E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4" name="TextBox 12"/>
          <p:cNvSpPr/>
          <p:nvPr/>
        </p:nvSpPr>
        <p:spPr>
          <a:xfrm>
            <a:off x="152280" y="152280"/>
            <a:ext cx="19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ransmission File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5" name="Rounded Rectangle 17"/>
          <p:cNvSpPr/>
          <p:nvPr/>
        </p:nvSpPr>
        <p:spPr>
          <a:xfrm>
            <a:off x="762120" y="2971800"/>
            <a:ext cx="2590560" cy="1447920"/>
          </a:xfrm>
          <a:prstGeom prst="roundRect">
            <a:avLst>
              <a:gd name="adj" fmla="val 16667"/>
            </a:avLst>
          </a:prstGeom>
          <a:solidFill>
            <a:srgbClr val="d6ece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S Functional Group 2 (005010X212)</a:t>
            </a: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E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6" name="Rounded Rectangle 18"/>
          <p:cNvSpPr/>
          <p:nvPr/>
        </p:nvSpPr>
        <p:spPr>
          <a:xfrm>
            <a:off x="1066680" y="3276720"/>
            <a:ext cx="1828800" cy="838080"/>
          </a:xfrm>
          <a:prstGeom prst="roundRect">
            <a:avLst>
              <a:gd name="adj" fmla="val 16667"/>
            </a:avLst>
          </a:prstGeom>
          <a:solidFill>
            <a:srgbClr val="d9d9d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T Transaction Set (276)</a:t>
            </a:r>
            <a:br>
              <a:rPr sz="900"/>
            </a:b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Claim 1 Inquiry</a:t>
            </a:r>
            <a:br>
              <a:rPr sz="900"/>
            </a:b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Claim 2 Inquiry </a:t>
            </a:r>
            <a:br>
              <a:rPr sz="900"/>
            </a:b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Claim 3 Inquiry </a:t>
            </a:r>
            <a:br>
              <a:rPr sz="900"/>
            </a:b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E</a:t>
            </a: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7" name="Rounded Rectangle 39"/>
          <p:cNvSpPr/>
          <p:nvPr/>
        </p:nvSpPr>
        <p:spPr>
          <a:xfrm>
            <a:off x="4419720" y="609480"/>
            <a:ext cx="1676160" cy="838440"/>
          </a:xfrm>
          <a:prstGeom prst="roundRect">
            <a:avLst>
              <a:gd name="adj" fmla="val 16667"/>
            </a:avLst>
          </a:prstGeom>
          <a:solidFill>
            <a:srgbClr val="d6ece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S Functional Group 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ST 999 (for GS 1) 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SE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E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528" name="Straight Arrow Connector 41"/>
          <p:cNvCxnSpPr/>
          <p:nvPr/>
        </p:nvCxnSpPr>
        <p:spPr>
          <a:xfrm>
            <a:off x="3352680" y="1294920"/>
            <a:ext cx="106776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29" name="Straight Arrow Connector 30"/>
          <p:cNvCxnSpPr/>
          <p:nvPr/>
        </p:nvCxnSpPr>
        <p:spPr>
          <a:xfrm>
            <a:off x="3581280" y="914400"/>
            <a:ext cx="61056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30" name="Slide Number Placeholder 31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2E960-3B72-4A70-8F08-F0AAAC339D5F}" type="slidenum">
              <a:rPr b="1" lang="en-US" sz="11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1" name="Rounded Rectangle 43"/>
          <p:cNvSpPr/>
          <p:nvPr/>
        </p:nvSpPr>
        <p:spPr>
          <a:xfrm>
            <a:off x="4191120" y="3429000"/>
            <a:ext cx="2133360" cy="1600200"/>
          </a:xfrm>
          <a:prstGeom prst="roundRect">
            <a:avLst>
              <a:gd name="adj" fmla="val 16667"/>
            </a:avLst>
          </a:prstGeom>
          <a:solidFill>
            <a:srgbClr val="e4f3f4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SA Interchange 1</a:t>
            </a:r>
            <a:br>
              <a:rPr sz="1100"/>
            </a:br>
            <a:br>
              <a:rPr sz="1100"/>
            </a:br>
            <a:br>
              <a:rPr sz="1100"/>
            </a:br>
            <a:br>
              <a:rPr sz="1100"/>
            </a:br>
            <a:br>
              <a:rPr sz="1100"/>
            </a:b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EA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2" name="Rounded Rectangle 47"/>
          <p:cNvSpPr/>
          <p:nvPr/>
        </p:nvSpPr>
        <p:spPr>
          <a:xfrm>
            <a:off x="4419720" y="3809880"/>
            <a:ext cx="1676160" cy="990720"/>
          </a:xfrm>
          <a:prstGeom prst="roundRect">
            <a:avLst>
              <a:gd name="adj" fmla="val 16667"/>
            </a:avLst>
          </a:prstGeom>
          <a:solidFill>
            <a:srgbClr val="d6ece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S Functional Group 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ST 999 (for GS 2) 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   AK1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   AK9*R*1*1*0*1~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SE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E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3" name="Rounded Rectangle 56"/>
          <p:cNvSpPr/>
          <p:nvPr/>
        </p:nvSpPr>
        <p:spPr>
          <a:xfrm>
            <a:off x="6705720" y="1752480"/>
            <a:ext cx="2133360" cy="1752840"/>
          </a:xfrm>
          <a:prstGeom prst="roundRect">
            <a:avLst>
              <a:gd name="adj" fmla="val 16667"/>
            </a:avLst>
          </a:prstGeom>
          <a:solidFill>
            <a:srgbClr val="e4f3f4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SA Interchange 1</a:t>
            </a:r>
            <a:br>
              <a:rPr sz="1100"/>
            </a:br>
            <a:br>
              <a:rPr sz="1100"/>
            </a:br>
            <a:br>
              <a:rPr sz="1100"/>
            </a:b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EA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4" name="Rounded Rectangle 49"/>
          <p:cNvSpPr/>
          <p:nvPr/>
        </p:nvSpPr>
        <p:spPr>
          <a:xfrm>
            <a:off x="6934320" y="2133720"/>
            <a:ext cx="1676160" cy="1066680"/>
          </a:xfrm>
          <a:prstGeom prst="roundRect">
            <a:avLst>
              <a:gd name="adj" fmla="val 16667"/>
            </a:avLst>
          </a:prstGeom>
          <a:solidFill>
            <a:srgbClr val="d6ece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S Functional Group 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ST 277CA (TS 1)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SE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ST 277CA (TS 2)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SE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E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5" name="TextBox 57"/>
          <p:cNvSpPr/>
          <p:nvPr/>
        </p:nvSpPr>
        <p:spPr>
          <a:xfrm>
            <a:off x="4724280" y="586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TS Translator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TextBox 58"/>
          <p:cNvSpPr/>
          <p:nvPr/>
        </p:nvSpPr>
        <p:spPr>
          <a:xfrm>
            <a:off x="7162920" y="152388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EM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537" name="Straight Arrow Connector 54"/>
          <p:cNvCxnSpPr/>
          <p:nvPr/>
        </p:nvCxnSpPr>
        <p:spPr>
          <a:xfrm>
            <a:off x="2895480" y="2437920"/>
            <a:ext cx="4268160" cy="381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38" name="Straight Connector 77"/>
          <p:cNvSpPr/>
          <p:nvPr/>
        </p:nvSpPr>
        <p:spPr>
          <a:xfrm>
            <a:off x="6553080" y="152280"/>
            <a:ext cx="0" cy="6477120"/>
          </a:xfrm>
          <a:prstGeom prst="line">
            <a:avLst/>
          </a:prstGeom>
          <a:ln w="38160">
            <a:solidFill>
              <a:srgbClr val="b6dcd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539" name="Straight Arrow Connector 60"/>
          <p:cNvCxnSpPr/>
          <p:nvPr/>
        </p:nvCxnSpPr>
        <p:spPr>
          <a:xfrm>
            <a:off x="2895480" y="1904760"/>
            <a:ext cx="4268160" cy="6102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40" name="TextBox 44"/>
          <p:cNvSpPr/>
          <p:nvPr/>
        </p:nvSpPr>
        <p:spPr>
          <a:xfrm>
            <a:off x="3895560" y="5105520"/>
            <a:ext cx="264348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K901 = R – Rejected</a:t>
            </a:r>
            <a:br>
              <a:rPr sz="900"/>
            </a:b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K902 = 1 – Transaction Set Submitted</a:t>
            </a:r>
            <a:br>
              <a:rPr sz="900"/>
            </a:b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K903 = 1 – Transaction Sets Received</a:t>
            </a:r>
            <a:br>
              <a:rPr sz="900"/>
            </a:b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K904 = 0 – Number of TS Accepted</a:t>
            </a:r>
            <a:br>
              <a:rPr sz="900"/>
            </a:b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K905 = 1 – Functional Group Not Supported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541" name="Straight Arrow Connector 45"/>
          <p:cNvCxnSpPr/>
          <p:nvPr/>
        </p:nvCxnSpPr>
        <p:spPr>
          <a:xfrm>
            <a:off x="3352680" y="4038480"/>
            <a:ext cx="1067760" cy="766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42" name="Straight Arrow Connector 55"/>
          <p:cNvCxnSpPr/>
          <p:nvPr/>
        </p:nvCxnSpPr>
        <p:spPr>
          <a:xfrm>
            <a:off x="3581280" y="3733920"/>
            <a:ext cx="61056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43" name="Straight Arrow Connector 27"/>
          <p:cNvCxnSpPr/>
          <p:nvPr/>
        </p:nvCxnSpPr>
        <p:spPr>
          <a:xfrm>
            <a:off x="3580920" y="1904760"/>
            <a:ext cx="3125160" cy="1530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TextBox 4"/>
          <p:cNvSpPr/>
          <p:nvPr/>
        </p:nvSpPr>
        <p:spPr>
          <a:xfrm>
            <a:off x="228600" y="1066680"/>
            <a:ext cx="8763120" cy="50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n Interchange Envelop was processed by the receiver’s translator where their trading partner’s Interchange Sender Identifier (SSSSSSs) was entered incorrectly with an extra “s” causing a rejection of the Interchange Envelope.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ubmitted Envelopes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iriam Fixed"/>
                <a:ea typeface="Miriam Fixed"/>
              </a:rPr>
              <a:t>ISA&gt;00&gt;1234567890&gt;00&gt;1234567890&gt;28&gt;SSSSSSs        &gt;28&gt;PPPPP          &gt;090721&gt;1700&gt;^&gt;00501&gt;900000001&gt;0&gt;P&gt;+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iriam Fixed"/>
                <a:ea typeface="Miriam Fixed"/>
              </a:rPr>
              <a:t>GS&gt;HC&gt;SSSSSS&gt;01001&gt;20090721&gt;1700&gt;700000001&gt;X&gt;005010X222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iriam Fixed"/>
                <a:ea typeface="Miriam Fixed"/>
              </a:rPr>
              <a:t>ST&gt;837&gt;000000001&gt;005010X222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iriam Fixed"/>
                <a:ea typeface="Miriam Fixed"/>
              </a:rPr>
              <a:t>::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iriam Fixed"/>
                <a:ea typeface="Miriam Fixed"/>
              </a:rPr>
              <a:t>: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iriam Fixed"/>
                <a:ea typeface="Miriam Fixed"/>
              </a:rPr>
              <a:t>SE&gt;32&gt;000000001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iriam Fixed"/>
                <a:ea typeface="Miriam Fixed"/>
              </a:rPr>
              <a:t>GE&gt;1&gt;700000001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iriam Fixed"/>
                <a:ea typeface="Miriam Fixed"/>
              </a:rPr>
              <a:t>IEA&gt;1&gt;900000001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sulting Interchange Acknowledgement - TA1 (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MS_EXAMPLE_TA1.DA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resulted in a TA1 Interchange Acknowledgement to be sent back with an Interchange Note Code of 006 “Invalid Interchange Sender ID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iriam Fixed"/>
                <a:ea typeface="Miriam Fixed"/>
              </a:rPr>
              <a:t>ISA&gt;00&gt;1234567890&gt;00&gt;1234567890&gt;28&gt;PPPPP           &gt;28&gt;SSSSSS          &gt;100624&gt;1430&gt;^&gt;00501&gt;000000001&gt;0&gt;P&gt;+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iriam Fixed"/>
                <a:ea typeface="Miriam Fixed"/>
              </a:rPr>
              <a:t>TA1&gt;900000001&gt;100624&gt;1430&gt;R&gt;006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iriam Fixed"/>
                <a:ea typeface="Miriam Fixed"/>
              </a:rPr>
              <a:t>IEA&gt;0&gt;900000001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 Rounded MT Bold"/>
              </a:rPr>
              <a:t>Interchange Acknowledgement Example (TA1)</a:t>
            </a: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546" name="Slide Number Placeholder 6"/>
          <p:cNvSpPr/>
          <p:nvPr/>
        </p:nvSpPr>
        <p:spPr>
          <a:xfrm>
            <a:off x="8610480" y="6534000"/>
            <a:ext cx="5335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F5C89-431A-4B5B-AEDF-263922A43205}" type="slidenum">
              <a:rPr b="1" lang="en-US" sz="16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Title 3"/>
          <p:cNvSpPr/>
          <p:nvPr/>
        </p:nvSpPr>
        <p:spPr>
          <a:xfrm>
            <a:off x="457200" y="0"/>
            <a:ext cx="82296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3399"/>
                </a:solidFill>
                <a:latin typeface="Arial Rounded MT Bold"/>
              </a:rPr>
              <a:t>999 Example</a:t>
            </a: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8" name="TextBox 4"/>
          <p:cNvSpPr/>
          <p:nvPr/>
        </p:nvSpPr>
        <p:spPr>
          <a:xfrm>
            <a:off x="228600" y="68580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mplementation Acknowledgement accepting a 837 Health Care Claim Functional Group which had 2 non-fatal errors and was accepted for further processing.  Each error is identified in the IK4 Segments (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MS_EXAMPLE_999.DA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Slide Number Placeholder 7"/>
          <p:cNvSpPr/>
          <p:nvPr/>
        </p:nvSpPr>
        <p:spPr>
          <a:xfrm>
            <a:off x="8610480" y="6534000"/>
            <a:ext cx="5335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B0ECB-5AB0-4802-8943-996CBC4235FD}" type="slidenum">
              <a:rPr b="1" lang="en-US" sz="16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50" name=""/>
          <p:cNvGraphicFramePr/>
          <p:nvPr/>
        </p:nvGraphicFramePr>
        <p:xfrm>
          <a:off x="380880" y="1676520"/>
          <a:ext cx="8382240" cy="4846680"/>
        </p:xfrm>
        <a:graphic>
          <a:graphicData uri="http://schemas.openxmlformats.org/drawingml/2006/table">
            <a:tbl>
              <a:tblPr/>
              <a:tblGrid>
                <a:gridCol w="4038840"/>
                <a:gridCol w="4343400"/>
              </a:tblGrid>
              <a:tr h="100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&gt;999&gt;000000001&gt;005010X2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Transaction Set  Header Segment I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9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Implementation Acknowledgement Qualifi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0000001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Transaction Set Control Numb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5010X231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TR3 Guide ID Implementation Acknowledgment For Health Care Insuran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00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K1&gt;HC&gt;000000001&gt;005010X2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K1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Functional Group Response Header Segment I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C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Health Care Claims Functional Identifier Co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0000001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Functional Group Control Numbe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5010X22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TR3 Guide ID Health Care Claim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fession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100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K2&gt;837&gt;000000001&gt;005010X2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K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Transaction Set Response Header Segment I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37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Health Care Clai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0000001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Transaction Set Control Numb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5010X22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TR3 Guide ID Health Care Claim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fession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K3&gt;CLM&gt;120&gt;&gt;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K3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Error Identification Segment I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M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Segment containing a syntax err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Position of the Segment within the Transaction Se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Segment has data element errors qualifi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100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K4&gt;2&gt;782&gt;I12&gt;92.1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K4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Implementation Data Element Note Segment I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Data Element position within Segm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8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X12 Data Dictionary Reference I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1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Segment has Data Element erro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2.111 – Copy of Data Element in err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Title 3"/>
          <p:cNvSpPr/>
          <p:nvPr/>
        </p:nvSpPr>
        <p:spPr>
          <a:xfrm>
            <a:off x="457200" y="122400"/>
            <a:ext cx="82296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3399"/>
                </a:solidFill>
                <a:latin typeface="Arial Rounded MT Bold"/>
              </a:rPr>
              <a:t>999 Example </a:t>
            </a:r>
            <a:r>
              <a:rPr b="1" lang="en-US" sz="2000" spc="-1" strike="noStrike">
                <a:solidFill>
                  <a:srgbClr val="003399"/>
                </a:solidFill>
                <a:latin typeface="Arial Rounded MT Bold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2" name="Slide Number Placeholder 6"/>
          <p:cNvSpPr/>
          <p:nvPr/>
        </p:nvSpPr>
        <p:spPr>
          <a:xfrm>
            <a:off x="8610480" y="6534000"/>
            <a:ext cx="5335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FED91-864E-4122-BE2E-0774136218B5}" type="slidenum">
              <a:rPr b="1" lang="en-US" sz="16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53" name=""/>
          <p:cNvGraphicFramePr/>
          <p:nvPr/>
        </p:nvGraphicFramePr>
        <p:xfrm>
          <a:off x="380880" y="838080"/>
          <a:ext cx="8382240" cy="3932280"/>
        </p:xfrm>
        <a:graphic>
          <a:graphicData uri="http://schemas.openxmlformats.org/drawingml/2006/table">
            <a:tbl>
              <a:tblPr/>
              <a:tblGrid>
                <a:gridCol w="4038840"/>
                <a:gridCol w="4343400"/>
              </a:tblGrid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K3&gt;N4&gt;127&gt;&gt;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K3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Error Identification Segment I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4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Segment containing err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7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Position of Segment within Transaction Se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Segment has Data Element errors qualifi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00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K4&gt;3&gt;116&gt;6&gt;90033-24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K4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Implementation Data Element Note Segment I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Data Element position within Segm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6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X12 Data Dictionary Reference I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Invalid character in Data Elem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033-2414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Copy of bad Data Elem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K5&gt;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K5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Transaction Set Response Trailer Segment I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Accept, but errors were not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00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K9&gt;E&gt;1&gt;1&gt;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K9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Functional Group Response Trailer Segment I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Accept, but errors were not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Number of Transaction Sets Includ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Number of Received Transaction Se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Number of Accepted Transaction Se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&gt;10&gt;000000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Transaction Set Trailer Segment I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Number of Segments within Transaction Se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00000001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- Transaction Set Control Numb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TextBox 4"/>
          <p:cNvSpPr/>
          <p:nvPr/>
        </p:nvSpPr>
        <p:spPr>
          <a:xfrm>
            <a:off x="762120" y="1600200"/>
            <a:ext cx="77724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mitter:  Best Billing Servic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eiver:   First Clearinghous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ider:    Smith Clini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aim Submission Date:  June 23, 201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aim Processing Date: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June 23, 201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Claim:  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tal Charges:  $1000.0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e was Rejected due to an invalid characters (extended characters – lower case without prior agreement to use the extended character set) contained within the Billing Provider’s Name.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NM1*85*2*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mith Clin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*****FI*123456789~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 Rounded MT Bold"/>
              </a:rPr>
              <a:t>277CA Example</a:t>
            </a:r>
            <a:br>
              <a:rPr sz="3200"/>
            </a:br>
            <a:r>
              <a:rPr b="1" lang="en-US" sz="1600" spc="-1" strike="noStrike">
                <a:solidFill>
                  <a:srgbClr val="003399"/>
                </a:solidFill>
                <a:latin typeface="Arial Rounded MT Bold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MS_EXAMPLE_277CA.DAT</a:t>
            </a:r>
            <a:r>
              <a:rPr b="1" lang="en-US" sz="1600" spc="-1" strike="noStrike">
                <a:solidFill>
                  <a:srgbClr val="003399"/>
                </a:solidFill>
                <a:latin typeface="Arial Rounded MT Bold"/>
              </a:rPr>
              <a:t>)</a:t>
            </a:r>
            <a:endParaRPr b="1" lang="en-US" sz="16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556" name="Slide Number Placeholder 6"/>
          <p:cNvSpPr/>
          <p:nvPr/>
        </p:nvSpPr>
        <p:spPr>
          <a:xfrm>
            <a:off x="8610480" y="6534000"/>
            <a:ext cx="5335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BE2A4-0737-4D14-BA42-07A0F955932F}" type="slidenum">
              <a:rPr b="1" lang="en-US" sz="16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TextBox 4"/>
          <p:cNvSpPr/>
          <p:nvPr/>
        </p:nvSpPr>
        <p:spPr>
          <a:xfrm>
            <a:off x="457200" y="671400"/>
            <a:ext cx="77724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T*277*0001*005010X214~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BHT*0085*08*277X2140001*20100623*1430*TH~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HL*1**20*1~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NM1*AY*2*FIRST CLEARINGHOUSE*****46*CLHR00~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RN*1*200102051635S00001ABCDEF~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DTP*050*D8*20100623~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DTP*009*D8*20100623~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HL*2*1*21*1~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NM1*41*2*BEST BILLING SERVICE*****46*S00001~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RN*2*2002020542857~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TC*A7:23*20100623*U*1000~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QTY*AA*3~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MT*YY*1000.00~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HL*3*2*19*0~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NM1*85*2*SMITH CLINIC*****XX*123456789~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RN*1*SMITH789~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TC*A7:511**U*1000.00*****A7:504:85~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QTY*QC*3~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MT*YY*1000.00~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E*22*0001~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 Rounded MT Bold"/>
              </a:rPr>
              <a:t>277CA Example</a:t>
            </a: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559" name="Slide Number Placeholder 6"/>
          <p:cNvSpPr/>
          <p:nvPr/>
        </p:nvSpPr>
        <p:spPr>
          <a:xfrm>
            <a:off x="8610480" y="6534000"/>
            <a:ext cx="5335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4FD93-A329-453C-884B-0EA5B44859B5}" type="slidenum">
              <a:rPr b="1" lang="en-US" sz="16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 Rounded MT Bold"/>
              </a:rPr>
              <a:t>277CA Example </a:t>
            </a:r>
            <a:br>
              <a:rPr sz="3200"/>
            </a:br>
            <a:r>
              <a:rPr b="1" lang="en-US" sz="1800" spc="-1" strike="noStrike">
                <a:solidFill>
                  <a:srgbClr val="003399"/>
                </a:solidFill>
                <a:latin typeface="Arial Rounded MT Bold"/>
              </a:rPr>
              <a:t>(Table 1)</a:t>
            </a:r>
            <a:endParaRPr b="1" lang="en-US" sz="18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561" name="Slide Number Placeholder 5"/>
          <p:cNvSpPr/>
          <p:nvPr/>
        </p:nvSpPr>
        <p:spPr>
          <a:xfrm>
            <a:off x="8610480" y="6534000"/>
            <a:ext cx="5335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DC5E9-759F-487F-83F4-4B87BA83473B}" type="slidenum">
              <a:rPr b="1" lang="en-US" sz="16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62" name=""/>
          <p:cNvGraphicFramePr/>
          <p:nvPr/>
        </p:nvGraphicFramePr>
        <p:xfrm>
          <a:off x="457200" y="1290600"/>
          <a:ext cx="8381880" cy="3662280"/>
        </p:xfrm>
        <a:graphic>
          <a:graphicData uri="http://schemas.openxmlformats.org/drawingml/2006/table">
            <a:tbl>
              <a:tblPr/>
              <a:tblGrid>
                <a:gridCol w="4038480"/>
                <a:gridCol w="4343400"/>
              </a:tblGrid>
              <a:tr h="100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&gt;277&gt;0001&gt;005010X2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Transaction Set Header Segment I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7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277 Health Care Claim Acknowledgement Transaction Set I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01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Transaction Set Control Numb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5010X214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 Implementation Convention Referen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28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HT&gt;0085&gt;08&gt;277X2140001&gt;20100624&gt;1430&gt;T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H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Beginning of Hierarchical Transaction Segment I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85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Hierarchical Structure Co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Information Sour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Information Receiv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Provider of Servi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Pati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8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Transaction Set Purpose Code (Statu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7X2140001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Inventory File Numb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00624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Transaction Set Creation D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3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Transaction Set Creation Ti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Transaction Type Code (Receipt Acknowledgement Advice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4T19:14:22Z</dcterms:created>
  <dc:creator>CMS</dc:creator>
  <dc:description/>
  <dc:language>en-US</dc:language>
  <cp:lastModifiedBy>Beatty, Gary</cp:lastModifiedBy>
  <dcterms:modified xsi:type="dcterms:W3CDTF">2010-06-30T20:10:22Z</dcterms:modified>
  <cp:revision>183</cp:revision>
  <dc:subject/>
  <dc:title>ICD-10</dc:title>
</cp:coreProperties>
</file>